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8.jpeg" ContentType="image/jpeg"/>
  <Override PartName="/ppt/media/image5.png" ContentType="image/png"/>
  <Override PartName="/ppt/media/image10.wmf" ContentType="image/x-wmf"/>
  <Override PartName="/ppt/media/image4.jpeg" ContentType="image/jpeg"/>
  <Override PartName="/ppt/media/image9.wmf" ContentType="image/x-wmf"/>
  <Override PartName="/ppt/media/image14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png" ContentType="image/png"/>
  <Override PartName="/ppt/media/image2.jpeg" ContentType="image/jpeg"/>
  <Override PartName="/ppt/media/image6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</p:sldIdLst>
  <p:sldSz cx="9144000" cy="6858000"/>
  <p:notesSz cx="9918700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6B0-7D6D-4C3E-A9A5-27F921BB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087-3D96-4B12-842E-15723E6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4D8-C688-468C-8FFC-4CBC9349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7A7-ABCF-4339-AE55-C843BA4F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E0A-D5EC-4232-9598-1E959A62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926-DE15-4CD5-98C1-DC1AA81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54C-530F-4EBC-8639-698B711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830-958E-47C7-B19C-06043D5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7E1-4F15-4802-9BA1-D9633852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3EF-FD05-4561-BA74-66FC4647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E08-3E77-4151-8868-583284E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4B2-8632-4202-B655-D48B6F8B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0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029-CE6E-453E-92D2-491B8FA75901}" type="datetime">
              <a:rPr b="0" lang="de-DE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800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6EEF-1DED-41E5-ABA6-9CB571FE7E7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3920" y="40464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chicht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95280" y="1292400"/>
            <a:ext cx="8054640" cy="764280"/>
            <a:chOff x="395280" y="1292400"/>
            <a:chExt cx="8054640" cy="764280"/>
          </a:xfrm>
        </p:grpSpPr>
        <p:sp>
          <p:nvSpPr>
            <p:cNvPr id="46" name=""/>
            <p:cNvSpPr/>
            <p:nvPr/>
          </p:nvSpPr>
          <p:spPr>
            <a:xfrm>
              <a:off x="395280" y="1384200"/>
              <a:ext cx="1297080" cy="5763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6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7000" y="1292400"/>
              <a:ext cx="662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Thomson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und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Ritchie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(Bell Laborities) schreib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Original-UNIX in Assembler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95280" y="2384280"/>
            <a:ext cx="8417520" cy="764280"/>
            <a:chOff x="395280" y="2384280"/>
            <a:chExt cx="8417520" cy="764280"/>
          </a:xfrm>
        </p:grpSpPr>
        <p:sp>
          <p:nvSpPr>
            <p:cNvPr id="49" name=""/>
            <p:cNvSpPr/>
            <p:nvPr/>
          </p:nvSpPr>
          <p:spPr>
            <a:xfrm>
              <a:off x="395280" y="2476440"/>
              <a:ext cx="1297080" cy="5763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19800" y="2384280"/>
              <a:ext cx="69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Konzeption der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Programmiersprache C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und Neuim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plementierung von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UNIX in C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95280" y="3476520"/>
            <a:ext cx="7844040" cy="764280"/>
            <a:chOff x="395280" y="3476520"/>
            <a:chExt cx="7844040" cy="764280"/>
          </a:xfrm>
        </p:grpSpPr>
        <p:sp>
          <p:nvSpPr>
            <p:cNvPr id="52" name=""/>
            <p:cNvSpPr/>
            <p:nvPr/>
          </p:nvSpPr>
          <p:spPr>
            <a:xfrm>
              <a:off x="395280" y="3568680"/>
              <a:ext cx="1297080" cy="5760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72-7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34560" y="3476520"/>
              <a:ext cx="640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Entwicklung verschiedener UNIX Versionen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AT&amp;T übernimmt Bell UNIX System Laborities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95280" y="4568760"/>
            <a:ext cx="8415360" cy="576000"/>
            <a:chOff x="395280" y="4568760"/>
            <a:chExt cx="8415360" cy="576000"/>
          </a:xfrm>
        </p:grpSpPr>
        <p:sp>
          <p:nvSpPr>
            <p:cNvPr id="55" name=""/>
            <p:cNvSpPr/>
            <p:nvPr/>
          </p:nvSpPr>
          <p:spPr>
            <a:xfrm>
              <a:off x="395280" y="4568760"/>
              <a:ext cx="1297080" cy="5760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7800" y="4595760"/>
              <a:ext cx="6972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AT&amp;T-UNIX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und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SD-UNIX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(University of Berkeley)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5280" y="5475240"/>
            <a:ext cx="8229960" cy="764280"/>
            <a:chOff x="395280" y="5475240"/>
            <a:chExt cx="8229960" cy="764280"/>
          </a:xfrm>
        </p:grpSpPr>
        <p:sp>
          <p:nvSpPr>
            <p:cNvPr id="58" name=""/>
            <p:cNvSpPr/>
            <p:nvPr/>
          </p:nvSpPr>
          <p:spPr>
            <a:xfrm>
              <a:off x="395280" y="5567400"/>
              <a:ext cx="1297080" cy="5763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82-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33120" y="5475240"/>
              <a:ext cx="679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AT&amp;T: System III,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System V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. Kommerzieller Mark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Uni of Berkeley: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SD 4.1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D76-5215-4E74-91F6-EA11C7221D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302880" y="1454040"/>
            <a:ext cx="21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Programmi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erkze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981000"/>
            <a:ext cx="5256360" cy="5256360"/>
          </a:xfrm>
          <a:prstGeom prst="ellipse">
            <a:avLst/>
          </a:prstGeom>
          <a:solidFill>
            <a:srgbClr val="a7f7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0" y="3035160"/>
            <a:ext cx="1143000" cy="1143000"/>
          </a:xfrm>
          <a:prstGeom prst="ellipse">
            <a:avLst/>
          </a:prstGeom>
          <a:solidFill>
            <a:srgbClr val="f9a5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3645000"/>
            <a:ext cx="2376360" cy="107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834920" y="3645000"/>
            <a:ext cx="2305080" cy="107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9480" y="185112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o, talk,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/>
          <p:nvPr/>
        </p:nvCxnSpPr>
        <p:spPr>
          <a:xfrm>
            <a:off x="4787640" y="2644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3" name=""/>
          <p:cNvSpPr/>
          <p:nvPr/>
        </p:nvSpPr>
        <p:spPr>
          <a:xfrm flipH="1">
            <a:off x="4140360" y="981000"/>
            <a:ext cx="71280" cy="2664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3440" y="141300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nutz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erkze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03240" y="519912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ystemverwal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erkze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17640" y="134136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wd, cd, 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9280" y="236232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kdir, rmdir,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8560" y="287352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ep, find, s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6560" y="33847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t, more,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3080" y="389556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, 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4000" y="28526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56720" y="13413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1773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rm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78160" y="3284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1800" y="234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1440" y="3141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5800" y="23115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1800" y="27082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80360" y="3716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7440" y="4221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p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26240" y="5264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c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01000" y="465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85440" y="4653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76640" y="49766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57360" y="4221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720" y="51577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y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53360" y="569592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77760" y="4869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3650760" y="4046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kze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987-B079-4BB0-8516-B385648D94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539640" y="1486080"/>
            <a:ext cx="8280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r der Eigentümer oder Systemverwalter kann Zugriff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chte änder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hmod u+x fil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Vergabe des Ausführrechts für den Eigentü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hmod g-w fil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Wegnehmen des Schreibrechts für die Grup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hmod o=x fil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etzen des Ausführrechts als einziges Zugriffsrecht für ande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600-7EDB-41AB-B4E2-DE03A22AAE4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971640" y="119700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m Modus können Zugriffsrechte auch als dreistelli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ktalzahl dargestellt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258920" y="2349360"/>
            <a:ext cx="6824160" cy="3672000"/>
            <a:chOff x="1258920" y="2349360"/>
            <a:chExt cx="6824160" cy="3672000"/>
          </a:xfrm>
        </p:grpSpPr>
        <p:sp>
          <p:nvSpPr>
            <p:cNvPr id="924" name=""/>
            <p:cNvSpPr/>
            <p:nvPr/>
          </p:nvSpPr>
          <p:spPr>
            <a:xfrm>
              <a:off x="1258920" y="2349360"/>
              <a:ext cx="682416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-</a:t>
              </a: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rwxr-x---</a:t>
              </a: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 1 s889636 users ... file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  </a:t>
              </a:r>
              <a:r>
                <a:rPr b="1" lang="de-DE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rwx</a:t>
              </a:r>
              <a:r>
                <a:rPr b="1" lang="de-DE" sz="28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        </a:t>
              </a:r>
              <a:r>
                <a:rPr b="1" lang="de-DE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r-x</a:t>
              </a:r>
              <a:r>
                <a:rPr b="1" lang="de-DE" sz="28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        </a:t>
              </a:r>
              <a:r>
                <a:rPr b="1" lang="de-DE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--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4+2+1                 4+0+1                  0+0+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mode: </a:t>
              </a: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7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51960" y="2781360"/>
              <a:ext cx="51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25920" y="2781360"/>
              <a:ext cx="51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8760" y="2781360"/>
              <a:ext cx="51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46080" y="2781360"/>
              <a:ext cx="2199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358720" y="2781360"/>
              <a:ext cx="168876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46240" y="2781360"/>
              <a:ext cx="352116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66040" y="36446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87400" y="36446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09120" y="36446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7400" y="4868640"/>
              <a:ext cx="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13280" y="4797360"/>
              <a:ext cx="198000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4707000" y="4795560"/>
              <a:ext cx="2053800" cy="79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05E-3322-4CDD-9957-59AB5D93A9B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"/>
          <p:cNvSpPr/>
          <p:nvPr/>
        </p:nvSpPr>
        <p:spPr>
          <a:xfrm>
            <a:off x="179280" y="1486080"/>
            <a:ext cx="878544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  (rw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gentümer      Gruppe          And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rf                   darf                 dür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hmod 711 datei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alle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ausführ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ausfüh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hmod 700 datei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alle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nicht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nic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hmod 644 datei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read/writ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les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le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hmod 100 datei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ausführ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nicht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nic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E78-037F-4748-97AB-A40FD58C875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6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" y="2816280"/>
            <a:ext cx="79279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m Anlegen erhalten Dateien und Verzeichnisse vorein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stellte Zugriffsrech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it umask werden Zugriffsrechte von Dateien und V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chnissen bestimmt, die anschließend erstellt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umask 022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euted:        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-- -w- -w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legung für Verzeichnisse: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wx r-x r-x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legung für Dateien:        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w- r-- r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01720" y="1066680"/>
            <a:ext cx="75661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umask Oktal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umask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nennt die Rechte, die wegzunehm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1B4-3DD4-471A-95C7-8F28A2A29A4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6.1: Zugriffsrechte für Verzeich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6.2: Zugriffsrechte für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6.3: Zugriffsrechte der Bildschirm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6.4: Zugriffsrechte än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6B4-0FF2-4B43-A031-38B57512B84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3486600" y="40464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90160" y="1341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358520" y="981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02160" y="242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408400" y="2421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v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33480" y="32846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797800" y="36450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j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726880" y="1413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p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926880" y="386064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08360" y="1773360"/>
            <a:ext cx="2305080" cy="1873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i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914120" y="4621320"/>
            <a:ext cx="618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ächtigster Editor, zeilenorien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s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wie ed, aber nicht interaktiv (Stream.Edi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v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ildschirmorientiert, Funktionalität wie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v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sitzt einige Verbesserungen gegenüber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mac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breiteter Editor der UNIX-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486-E51C-4EED-BA0B-9ADE7EF7B21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"/>
          <p:cNvSpPr/>
          <p:nvPr/>
        </p:nvSpPr>
        <p:spPr>
          <a:xfrm>
            <a:off x="684360" y="1844640"/>
            <a:ext cx="7775280" cy="36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492360" y="2133720"/>
            <a:ext cx="288000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abe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492360" y="3429000"/>
            <a:ext cx="288000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492360" y="4724280"/>
            <a:ext cx="2880000" cy="540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tzte-Zeile 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372360" y="2349360"/>
            <a:ext cx="288720" cy="115092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6372360" y="3861720"/>
            <a:ext cx="288720" cy="115092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203640" y="2348640"/>
            <a:ext cx="288720" cy="115092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3203640" y="3862440"/>
            <a:ext cx="288720" cy="115092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40000" y="350028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79640" y="2673360"/>
            <a:ext cx="86364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979640" y="4184640"/>
            <a:ext cx="86364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020000" y="4905360"/>
            <a:ext cx="1439640" cy="53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26920" y="3400560"/>
            <a:ext cx="1440000" cy="53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72360" y="5157720"/>
            <a:ext cx="720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338-5968-4382-A969-79BE6DE5995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6" name=""/>
          <p:cNvSpPr/>
          <p:nvPr/>
        </p:nvSpPr>
        <p:spPr>
          <a:xfrm>
            <a:off x="333360" y="981000"/>
            <a:ext cx="85489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e vi-Zustä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efehlsmod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ier können Sie vi-Befehle absetzen, nachdem Sie den Cur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sitioniert haben (z.B. Zeile einfügen oder löschen). In 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ehlsmodus gelangt man durch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SC&gt;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Eingabemod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xt kann eingegeben bzw. verändert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Letzte-Zeile-Modus (ex-Modu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ier können Sie Befehle eingeben, um den Editor zu verlass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gaben werden in der untersten Zeile nach dem ":" gema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36240" y="5738760"/>
            <a:ext cx="70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chtung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achten sie Groß- und Kleinbuchstabe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5AD-623C-43FF-808E-74504B47E5D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1763640" y="1052640"/>
            <a:ext cx="5400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vi [Optionen] [Date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tartet den 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78440" y="3146400"/>
            <a:ext cx="8474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iest die Eingabe aus der Standardeinga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[n]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etzt den Cursor auf den Anfang der Zeile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/{pattern}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etzt den Cursor auf den Anfang der Ze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s ersten Vorkommens von pat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s script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ädt die script-Datei; die gespeicherten Zei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hen werden als Tastaureingaben aufgefas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ädt die angegebene Datei im read-only Mod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7A6-6119-46F5-B556-D28B7C0674D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425520" y="1195560"/>
            <a:ext cx="834372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enden des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ngabe     Wirk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m Eingabe- in den Befehlszustand überge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: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m Befehls- in den Letzte-Zeile-Zu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wq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rite) Datei sichern und Editor verl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q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quit) Editor verl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q!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ditor ohne Datensicherung verl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50640" y="4724280"/>
            <a:ext cx="8665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Weitere Kommandos für den Letzte-Zeile-Mod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:r datei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Einlesen der angegebenen Datei an der Cursor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:r !Kommando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Ausführen des Kommandos und Einlesen 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gabe an der Cursor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:w datei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Datei unter angegebenem Namen speich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2E6-90A2-4137-AE7C-61BE0B930B3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28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und abm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611280" y="4025880"/>
            <a:ext cx="8278560" cy="22885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nster Linu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ogin as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889636@cruncher.ba-mannheim.de's password: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st login: Fri Apr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Have a lot of fu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889636@cruncher:~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2800" y="1125360"/>
            <a:ext cx="4771080" cy="8254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nster Kommando-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W:\&gt;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u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2224080"/>
            <a:ext cx="6384960" cy="14958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TTY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ostName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runcher.ba-mannheim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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S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anklic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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OP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etäti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8D5-A765-48EC-81D7-3CDB0E561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69920" y="1231920"/>
            <a:ext cx="87184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npassung des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Über Parameter Anpass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 den Benutzer mögli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Interaktive Anpassu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Tastatureingab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: set number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len werden am Anfang nummeri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: set all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en der aktuellen Parametereinstell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: vi datei_neu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ditieren einer anderen 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2.  Anpassung über die Datei .exrc im Loginverzeichn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ie Datei .exrc erhält die Zeile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e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601-A53F-44C8-B090-7A532D5BF98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04400" y="1247760"/>
            <a:ext cx="84733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wegen im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Zeichen-/Spaltenwe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eertaste, l, </a:t>
            </a:r>
            <a:r>
              <a:rPr b="1" lang="de-DE" sz="2400" spc="-1" strike="noStrike">
                <a:solidFill>
                  <a:srgbClr val="ff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ein Zeichen nach rec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Entf, h, </a:t>
            </a:r>
            <a:r>
              <a:rPr b="1" lang="de-DE" sz="2400" spc="-1" strike="noStrike">
                <a:solidFill>
                  <a:srgbClr val="ff0000"/>
                </a:solidFill>
                <a:latin typeface="Math C"/>
                <a:ea typeface="Math C"/>
              </a:rPr>
              <a:t>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: ein Zeichen nach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2.  Zeilenwe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j, </a:t>
            </a:r>
            <a:r>
              <a:rPr b="1" lang="de-DE" sz="2400" spc="-1" strike="noStrike">
                <a:solidFill>
                  <a:srgbClr val="ff0000"/>
                </a:solidFill>
                <a:latin typeface="Math C"/>
                <a:ea typeface="Math C"/>
              </a:rPr>
              <a:t>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 eine Zeile nach u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k,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Math C"/>
                <a:ea typeface="Math C"/>
              </a:rPr>
              <a:t>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eine Zeile nach o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eine Zeile nach unten zum ersten sichtbaren Ze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eine Zeile nach oben zum ersten sichtbaren Ze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D98-5705-452D-B775-2A1893B8E2E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3960" y="1427040"/>
            <a:ext cx="73771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wegen im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2.  Zeilenwe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zum Zeilen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zum Zeilenanf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y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Bildschirm eine Zeile nach oben scro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Bildschirm eine Zeile nach unten scro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prung zur n-ten Ze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: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prung zur n-ten Ze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3E3-7EFD-4EBE-B2F1-AB2544F7C42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16520" y="1351080"/>
            <a:ext cx="82778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wegen im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3.  Seitenwe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prung zum Ende der 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prung zum Anfang des Bildschi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prung zum Ende des Bildschi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prung zur Mitte des Bildschi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Bildschirm eine ganze Seite nach oben scro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f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Bildschirm eine ganze Seite nach unten scro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u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Bildschirm eine halbe Seite nach oben scro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d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Bildschirm eine halbe Seite nach unten scro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989-3B30-4811-AFC4-235BBAC97D7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85640" y="1171440"/>
            <a:ext cx="8251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wegen im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4.  Su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patter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ucht vorwärts zum nächsten Mu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?patter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sucht rückwärts zum vorhergehenden Mu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nächste Fundstelle vorwä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nächste Fundstelle rückwä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94640" y="4202280"/>
            <a:ext cx="492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Löschen, Ersetzen und Kop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Ersetzen eines Objek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d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: löschen eines Objek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8F0-3BE4-40B0-BA08-543F17DE81C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"/>
          <p:cNvSpPr/>
          <p:nvPr/>
        </p:nvSpPr>
        <p:spPr>
          <a:xfrm>
            <a:off x="-113760" y="1125360"/>
            <a:ext cx="36694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wegen 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5. Suchen + Erse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627280" y="1047600"/>
            <a:ext cx="5861520" cy="5371920"/>
            <a:chOff x="2627280" y="1047600"/>
            <a:chExt cx="5861520" cy="5371920"/>
          </a:xfrm>
        </p:grpSpPr>
        <p:sp>
          <p:nvSpPr>
            <p:cNvPr id="1032" name=""/>
            <p:cNvSpPr/>
            <p:nvPr/>
          </p:nvSpPr>
          <p:spPr>
            <a:xfrm>
              <a:off x="3456000" y="1047600"/>
              <a:ext cx="1873080" cy="101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&lt;ESC&gt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0000"/>
                  </a:solidFill>
                  <a:latin typeface="Arial"/>
                </a:rPr>
                <a:t>/ patter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&lt;Enter&gt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56000" y="2350800"/>
              <a:ext cx="1873080" cy="792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&lt;ESC&gt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0000"/>
                  </a:solidFill>
                  <a:latin typeface="Arial"/>
                </a:rPr>
                <a:t>cw ersatz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456000" y="3431880"/>
              <a:ext cx="1873080" cy="757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&lt;ESC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56000" y="5632200"/>
              <a:ext cx="1873080" cy="787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&lt;ESC&gt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3419640" y="4481280"/>
              <a:ext cx="1944360" cy="909000"/>
              <a:chOff x="3419640" y="4481280"/>
              <a:chExt cx="1944360" cy="909000"/>
            </a:xfrm>
          </p:grpSpPr>
          <p:sp>
            <p:nvSpPr>
              <p:cNvPr id="1037" name=""/>
              <p:cNvSpPr/>
              <p:nvPr/>
            </p:nvSpPr>
            <p:spPr>
              <a:xfrm>
                <a:off x="3419640" y="4481280"/>
                <a:ext cx="1944360" cy="863640"/>
              </a:xfrm>
              <a:prstGeom prst="flowChartDecision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781440" y="4626000"/>
                <a:ext cx="1253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200" spc="-1" strike="noStrike">
                    <a:solidFill>
                      <a:srgbClr val="000000"/>
                    </a:solidFill>
                    <a:latin typeface="Arial"/>
                  </a:rPr>
                  <a:t>ersetze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2987640" y="3863880"/>
              <a:ext cx="432000" cy="1047600"/>
            </a:xfrm>
            <a:custGeom>
              <a:avLst/>
              <a:gdLst/>
              <a:ahLst/>
              <a:rect l="l" t="t" r="r" b="b"/>
              <a:pathLst>
                <a:path w="272" h="499">
                  <a:moveTo>
                    <a:pt x="272" y="499"/>
                  </a:moveTo>
                  <a:lnTo>
                    <a:pt x="0" y="499"/>
                  </a:lnTo>
                  <a:lnTo>
                    <a:pt x="0" y="0"/>
                  </a:lnTo>
                  <a:lnTo>
                    <a:pt x="2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27280" y="3574800"/>
              <a:ext cx="792360" cy="2494080"/>
            </a:xfrm>
            <a:custGeom>
              <a:avLst/>
              <a:gdLst/>
              <a:ahLst/>
              <a:rect l="l" t="t" r="r" b="b"/>
              <a:pathLst>
                <a:path w="499" h="1316">
                  <a:moveTo>
                    <a:pt x="499" y="1316"/>
                  </a:moveTo>
                  <a:lnTo>
                    <a:pt x="0" y="1316"/>
                  </a:lnTo>
                  <a:lnTo>
                    <a:pt x="0" y="0"/>
                  </a:lnTo>
                  <a:lnTo>
                    <a:pt x="49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92720" y="20620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392720" y="31431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92720" y="420660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92720" y="53434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13760" y="1299960"/>
              <a:ext cx="2710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suche nach Mus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512320" y="2506320"/>
              <a:ext cx="2135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ersetze Mus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13040" y="3435120"/>
              <a:ext cx="2975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Suche nächste Stel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13040" y="4536720"/>
              <a:ext cx="264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Soll Muster wied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ersetzt werden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11240" y="5749560"/>
              <a:ext cx="255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Ersetze nochma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59320" y="5203800"/>
              <a:ext cx="398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52640" y="4867200"/>
              <a:ext cx="709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ei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42A-BFB9-41B4-BD8B-E3681CCA825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"/>
          <p:cNvSpPr/>
          <p:nvPr/>
        </p:nvSpPr>
        <p:spPr>
          <a:xfrm>
            <a:off x="355680" y="1125360"/>
            <a:ext cx="45320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ewegen im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6. Suchen und alle erse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77960" y="2565360"/>
            <a:ext cx="74548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 dateiweites Ersetzen von Textmustern kann 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tzte-Zeile-Modus erfolg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,$s/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uster1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uster2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,$ </a:t>
            </a:r>
            <a:r>
              <a:rPr b="1" lang="de-DE" sz="2400" spc="-1" strike="noStrike">
                <a:solidFill>
                  <a:srgbClr val="ff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Zeile 1 bis Dateien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   </a:t>
            </a:r>
            <a:r>
              <a:rPr b="1" lang="de-DE" sz="2400" spc="-1" strike="noStrike">
                <a:solidFill>
                  <a:srgbClr val="ff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ubstitu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g   </a:t>
            </a:r>
            <a:r>
              <a:rPr b="1" lang="de-DE" sz="2400" spc="-1" strike="noStrike">
                <a:solidFill>
                  <a:srgbClr val="ff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Vorkommen des Testmusters in einer Ze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B09-53F1-4E08-802C-59B7FA698E5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2" name=""/>
          <p:cNvSpPr/>
          <p:nvPr/>
        </p:nvSpPr>
        <p:spPr>
          <a:xfrm>
            <a:off x="395280" y="981000"/>
            <a:ext cx="842472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692360" y="1700280"/>
            <a:ext cx="287964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abe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692360" y="5481720"/>
            <a:ext cx="287964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0" y="1989000"/>
            <a:ext cx="358920" cy="374508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1402200" y="1988280"/>
            <a:ext cx="289080" cy="374508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68360" y="3500280"/>
            <a:ext cx="863640" cy="540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3480" y="105264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ditieren im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404720" y="2606760"/>
            <a:ext cx="344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lösche Ze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undo letzte Ak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wiederhole letzte Ak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080680" y="2541600"/>
            <a:ext cx="364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appe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append am Zeilen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in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insert am Zeilenanf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open Zeile (unter Curs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open Zeile (über Curs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replace ein Ze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replace mehrere Ze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66D-7C24-4BAE-89EF-E0D41AF8380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"/>
          <p:cNvSpPr/>
          <p:nvPr/>
        </p:nvSpPr>
        <p:spPr>
          <a:xfrm>
            <a:off x="108000" y="1125360"/>
            <a:ext cx="9036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Cursorposition ist unterstrichen und blau gedruc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her: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dauer wird </a:t>
            </a: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lohnt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statureingabe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früher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oder spä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achher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dauer wird früher oder später </a:t>
            </a: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loh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statureingabe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, meistens spä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her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Ausdauer wird früher oder später belohnt, meistens später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_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9B4-7937-4A47-8B22-6DA8AA3E991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0" name=""/>
          <p:cNvSpPr/>
          <p:nvPr/>
        </p:nvSpPr>
        <p:spPr>
          <a:xfrm>
            <a:off x="611280" y="981000"/>
            <a:ext cx="799308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276720" y="1700280"/>
            <a:ext cx="287964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abe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276720" y="5481720"/>
            <a:ext cx="2879640" cy="53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fehls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156360" y="1989000"/>
            <a:ext cx="1368360" cy="374508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1978560" y="1988280"/>
            <a:ext cx="1297080" cy="3745080"/>
          </a:xfrm>
          <a:custGeom>
            <a:avLst/>
            <a:gdLst/>
            <a:ahLst/>
            <a:rect l="l" t="t" r="r" b="b"/>
            <a:pathLst>
              <a:path w="182" h="725">
                <a:moveTo>
                  <a:pt x="0" y="725"/>
                </a:moveTo>
                <a:lnTo>
                  <a:pt x="182" y="72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3500280"/>
            <a:ext cx="863640" cy="540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53480" y="105264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ditieren im vi-Ed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16320" y="2606760"/>
            <a:ext cx="473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dd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aktuelle Zeile lö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yy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aktuelle Zeile in Puffer ste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Puffer unter dem Cursor einfü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Puffer über dem Cursor einfü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055-9B6B-4A47-8FB7-936263471828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31560" y="40464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bildsch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042920" y="1125360"/>
          <a:ext cx="7278840" cy="518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1125360"/>
                    <a:ext cx="72788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027880" y="1819440"/>
            <a:ext cx="405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login as: s8896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889636@cruncher's pass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Last login: Do Jul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ave a lot of fu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889636@cruncher:~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52360" y="3429000"/>
            <a:ext cx="3260880" cy="2188440"/>
            <a:chOff x="252360" y="3429000"/>
            <a:chExt cx="3260880" cy="2188440"/>
          </a:xfrm>
        </p:grpSpPr>
        <p:sp>
          <p:nvSpPr>
            <p:cNvPr id="258" name=""/>
            <p:cNvSpPr/>
            <p:nvPr/>
          </p:nvSpPr>
          <p:spPr>
            <a:xfrm>
              <a:off x="252360" y="5157720"/>
              <a:ext cx="32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ingabeaufforder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11280" y="3429000"/>
              <a:ext cx="1512720" cy="172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BBB-B64C-4510-9F1D-860BA047E8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2" name=""/>
          <p:cNvSpPr/>
          <p:nvPr/>
        </p:nvSpPr>
        <p:spPr>
          <a:xfrm>
            <a:off x="1258920" y="1197000"/>
            <a:ext cx="71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statureingab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Cursor in gewünschte Zeile bew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yy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tellt aktuelle Zeile in den 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Cursor über die Zielposition ste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ügt den Buffer unter der aktuellen Zeile 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yy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er Zeilen in den Buffer ste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dd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rei Zeilen löschen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832560" y="40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E30-8178-4CE1-98B9-4588AAB29068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7.1: Editieren einer 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7.2: Erstellen der Konfigurationsdatei .ex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7.3: Editieren der Datei .bash_lo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4AF-5EB5-45A1-BB9B-2834C4AA26D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"/>
          <p:cNvSpPr/>
          <p:nvPr/>
        </p:nvSpPr>
        <p:spPr>
          <a:xfrm>
            <a:off x="468360" y="1195560"/>
            <a:ext cx="813744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49560" y="1268280"/>
            <a:ext cx="850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Programm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t eine ausführbare Dat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Prozes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ist das Laden eines Programmes in 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uptspeicher und die anschließende Ausfü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seiner Prozessumgeb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Multitaski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mehrere Prozesse laufen zur sel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it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51520" y="4792680"/>
            <a:ext cx="80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as System ordnet jedem Prozess beim Start eine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ozess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i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ntifikationnummer z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3CB-0D37-4D04-A233-91012C7B9DC1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6" name=""/>
          <p:cNvGrpSpPr/>
          <p:nvPr/>
        </p:nvGrpSpPr>
        <p:grpSpPr>
          <a:xfrm>
            <a:off x="609120" y="1209600"/>
            <a:ext cx="7996680" cy="5005440"/>
            <a:chOff x="609120" y="1209600"/>
            <a:chExt cx="7996680" cy="5005440"/>
          </a:xfrm>
        </p:grpSpPr>
        <p:grpSp>
          <p:nvGrpSpPr>
            <p:cNvPr id="1107" name=""/>
            <p:cNvGrpSpPr/>
            <p:nvPr/>
          </p:nvGrpSpPr>
          <p:grpSpPr>
            <a:xfrm>
              <a:off x="766800" y="1209600"/>
              <a:ext cx="7839000" cy="5005440"/>
              <a:chOff x="766800" y="1209600"/>
              <a:chExt cx="7839000" cy="5005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2535120" y="1209600"/>
                <a:ext cx="1447920" cy="1422360"/>
              </a:xfrm>
              <a:custGeom>
                <a:avLst/>
                <a:gdLst/>
                <a:ahLst/>
                <a:rect l="l" t="t" r="r" b="b"/>
                <a:pathLst>
                  <a:path w="1823" h="1792">
                    <a:moveTo>
                      <a:pt x="0" y="896"/>
                    </a:moveTo>
                    <a:lnTo>
                      <a:pt x="19" y="688"/>
                    </a:lnTo>
                    <a:lnTo>
                      <a:pt x="77" y="506"/>
                    </a:lnTo>
                    <a:lnTo>
                      <a:pt x="166" y="353"/>
                    </a:lnTo>
                    <a:lnTo>
                      <a:pt x="284" y="225"/>
                    </a:lnTo>
                    <a:lnTo>
                      <a:pt x="420" y="128"/>
                    </a:lnTo>
                    <a:lnTo>
                      <a:pt x="575" y="57"/>
                    </a:lnTo>
                    <a:lnTo>
                      <a:pt x="739" y="15"/>
                    </a:lnTo>
                    <a:lnTo>
                      <a:pt x="911" y="0"/>
                    </a:lnTo>
                    <a:lnTo>
                      <a:pt x="995" y="3"/>
                    </a:lnTo>
                    <a:lnTo>
                      <a:pt x="1080" y="13"/>
                    </a:lnTo>
                    <a:lnTo>
                      <a:pt x="1245" y="55"/>
                    </a:lnTo>
                    <a:lnTo>
                      <a:pt x="1397" y="124"/>
                    </a:lnTo>
                    <a:lnTo>
                      <a:pt x="1537" y="223"/>
                    </a:lnTo>
                    <a:lnTo>
                      <a:pt x="1652" y="347"/>
                    </a:lnTo>
                    <a:lnTo>
                      <a:pt x="1744" y="503"/>
                    </a:lnTo>
                    <a:lnTo>
                      <a:pt x="1802" y="685"/>
                    </a:lnTo>
                    <a:lnTo>
                      <a:pt x="1823" y="896"/>
                    </a:lnTo>
                    <a:lnTo>
                      <a:pt x="1819" y="1002"/>
                    </a:lnTo>
                    <a:lnTo>
                      <a:pt x="1804" y="1105"/>
                    </a:lnTo>
                    <a:lnTo>
                      <a:pt x="1746" y="1287"/>
                    </a:lnTo>
                    <a:lnTo>
                      <a:pt x="1657" y="1440"/>
                    </a:lnTo>
                    <a:lnTo>
                      <a:pt x="1539" y="1567"/>
                    </a:lnTo>
                    <a:lnTo>
                      <a:pt x="1402" y="1665"/>
                    </a:lnTo>
                    <a:lnTo>
                      <a:pt x="1248" y="1735"/>
                    </a:lnTo>
                    <a:lnTo>
                      <a:pt x="1084" y="1777"/>
                    </a:lnTo>
                    <a:lnTo>
                      <a:pt x="912" y="1792"/>
                    </a:lnTo>
                    <a:lnTo>
                      <a:pt x="742" y="1779"/>
                    </a:lnTo>
                    <a:lnTo>
                      <a:pt x="578" y="1738"/>
                    </a:lnTo>
                    <a:lnTo>
                      <a:pt x="426" y="1668"/>
                    </a:lnTo>
                    <a:lnTo>
                      <a:pt x="286" y="1569"/>
                    </a:lnTo>
                    <a:lnTo>
                      <a:pt x="170" y="1444"/>
                    </a:lnTo>
                    <a:lnTo>
                      <a:pt x="79" y="1289"/>
                    </a:lnTo>
                    <a:lnTo>
                      <a:pt x="21" y="1107"/>
                    </a:lnTo>
                    <a:lnTo>
                      <a:pt x="0" y="8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789640" y="1817640"/>
                <a:ext cx="99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topp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6800" y="3164040"/>
                <a:ext cx="1446120" cy="1420560"/>
              </a:xfrm>
              <a:custGeom>
                <a:avLst/>
                <a:gdLst/>
                <a:ahLst/>
                <a:rect l="l" t="t" r="r" b="b"/>
                <a:pathLst>
                  <a:path w="1822" h="1790">
                    <a:moveTo>
                      <a:pt x="0" y="894"/>
                    </a:moveTo>
                    <a:lnTo>
                      <a:pt x="19" y="686"/>
                    </a:lnTo>
                    <a:lnTo>
                      <a:pt x="77" y="504"/>
                    </a:lnTo>
                    <a:lnTo>
                      <a:pt x="166" y="351"/>
                    </a:lnTo>
                    <a:lnTo>
                      <a:pt x="284" y="224"/>
                    </a:lnTo>
                    <a:lnTo>
                      <a:pt x="420" y="127"/>
                    </a:lnTo>
                    <a:lnTo>
                      <a:pt x="575" y="57"/>
                    </a:lnTo>
                    <a:lnTo>
                      <a:pt x="739" y="15"/>
                    </a:lnTo>
                    <a:lnTo>
                      <a:pt x="910" y="0"/>
                    </a:lnTo>
                    <a:lnTo>
                      <a:pt x="993" y="3"/>
                    </a:lnTo>
                    <a:lnTo>
                      <a:pt x="1079" y="13"/>
                    </a:lnTo>
                    <a:lnTo>
                      <a:pt x="1243" y="55"/>
                    </a:lnTo>
                    <a:lnTo>
                      <a:pt x="1396" y="124"/>
                    </a:lnTo>
                    <a:lnTo>
                      <a:pt x="1535" y="223"/>
                    </a:lnTo>
                    <a:lnTo>
                      <a:pt x="1651" y="347"/>
                    </a:lnTo>
                    <a:lnTo>
                      <a:pt x="1743" y="501"/>
                    </a:lnTo>
                    <a:lnTo>
                      <a:pt x="1800" y="683"/>
                    </a:lnTo>
                    <a:lnTo>
                      <a:pt x="1822" y="894"/>
                    </a:lnTo>
                    <a:lnTo>
                      <a:pt x="1818" y="1000"/>
                    </a:lnTo>
                    <a:lnTo>
                      <a:pt x="1803" y="1102"/>
                    </a:lnTo>
                    <a:lnTo>
                      <a:pt x="1745" y="1284"/>
                    </a:lnTo>
                    <a:lnTo>
                      <a:pt x="1656" y="1437"/>
                    </a:lnTo>
                    <a:lnTo>
                      <a:pt x="1538" y="1565"/>
                    </a:lnTo>
                    <a:lnTo>
                      <a:pt x="1401" y="1662"/>
                    </a:lnTo>
                    <a:lnTo>
                      <a:pt x="1247" y="1733"/>
                    </a:lnTo>
                    <a:lnTo>
                      <a:pt x="1082" y="1775"/>
                    </a:lnTo>
                    <a:lnTo>
                      <a:pt x="912" y="1790"/>
                    </a:lnTo>
                    <a:lnTo>
                      <a:pt x="742" y="1777"/>
                    </a:lnTo>
                    <a:lnTo>
                      <a:pt x="578" y="1735"/>
                    </a:lnTo>
                    <a:lnTo>
                      <a:pt x="426" y="1666"/>
                    </a:lnTo>
                    <a:lnTo>
                      <a:pt x="286" y="1567"/>
                    </a:lnTo>
                    <a:lnTo>
                      <a:pt x="170" y="1443"/>
                    </a:lnTo>
                    <a:lnTo>
                      <a:pt x="79" y="1287"/>
                    </a:lnTo>
                    <a:lnTo>
                      <a:pt x="21" y="1105"/>
                    </a:lnTo>
                    <a:lnTo>
                      <a:pt x="0" y="894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188000" y="3770280"/>
                <a:ext cx="680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read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536920" y="4794120"/>
                <a:ext cx="1447560" cy="1420920"/>
              </a:xfrm>
              <a:custGeom>
                <a:avLst/>
                <a:gdLst/>
                <a:ahLst/>
                <a:rect l="l" t="t" r="r" b="b"/>
                <a:pathLst>
                  <a:path w="1823" h="1790">
                    <a:moveTo>
                      <a:pt x="0" y="895"/>
                    </a:moveTo>
                    <a:lnTo>
                      <a:pt x="19" y="687"/>
                    </a:lnTo>
                    <a:lnTo>
                      <a:pt x="77" y="505"/>
                    </a:lnTo>
                    <a:lnTo>
                      <a:pt x="166" y="352"/>
                    </a:lnTo>
                    <a:lnTo>
                      <a:pt x="284" y="224"/>
                    </a:lnTo>
                    <a:lnTo>
                      <a:pt x="420" y="128"/>
                    </a:lnTo>
                    <a:lnTo>
                      <a:pt x="575" y="57"/>
                    </a:lnTo>
                    <a:lnTo>
                      <a:pt x="739" y="15"/>
                    </a:lnTo>
                    <a:lnTo>
                      <a:pt x="911" y="0"/>
                    </a:lnTo>
                    <a:lnTo>
                      <a:pt x="995" y="3"/>
                    </a:lnTo>
                    <a:lnTo>
                      <a:pt x="1081" y="13"/>
                    </a:lnTo>
                    <a:lnTo>
                      <a:pt x="1245" y="55"/>
                    </a:lnTo>
                    <a:lnTo>
                      <a:pt x="1397" y="124"/>
                    </a:lnTo>
                    <a:lnTo>
                      <a:pt x="1537" y="223"/>
                    </a:lnTo>
                    <a:lnTo>
                      <a:pt x="1653" y="347"/>
                    </a:lnTo>
                    <a:lnTo>
                      <a:pt x="1744" y="502"/>
                    </a:lnTo>
                    <a:lnTo>
                      <a:pt x="1802" y="684"/>
                    </a:lnTo>
                    <a:lnTo>
                      <a:pt x="1823" y="895"/>
                    </a:lnTo>
                    <a:lnTo>
                      <a:pt x="1819" y="1001"/>
                    </a:lnTo>
                    <a:lnTo>
                      <a:pt x="1804" y="1102"/>
                    </a:lnTo>
                    <a:lnTo>
                      <a:pt x="1746" y="1285"/>
                    </a:lnTo>
                    <a:lnTo>
                      <a:pt x="1657" y="1438"/>
                    </a:lnTo>
                    <a:lnTo>
                      <a:pt x="1539" y="1565"/>
                    </a:lnTo>
                    <a:lnTo>
                      <a:pt x="1403" y="1663"/>
                    </a:lnTo>
                    <a:lnTo>
                      <a:pt x="1248" y="1733"/>
                    </a:lnTo>
                    <a:lnTo>
                      <a:pt x="1084" y="1775"/>
                    </a:lnTo>
                    <a:lnTo>
                      <a:pt x="912" y="1790"/>
                    </a:lnTo>
                    <a:lnTo>
                      <a:pt x="742" y="1777"/>
                    </a:lnTo>
                    <a:lnTo>
                      <a:pt x="578" y="1735"/>
                    </a:lnTo>
                    <a:lnTo>
                      <a:pt x="426" y="1666"/>
                    </a:lnTo>
                    <a:lnTo>
                      <a:pt x="286" y="1567"/>
                    </a:lnTo>
                    <a:lnTo>
                      <a:pt x="170" y="1443"/>
                    </a:lnTo>
                    <a:lnTo>
                      <a:pt x="79" y="1288"/>
                    </a:lnTo>
                    <a:lnTo>
                      <a:pt x="21" y="1106"/>
                    </a:lnTo>
                    <a:lnTo>
                      <a:pt x="0" y="895"/>
                    </a:lnTo>
                    <a:close/>
                  </a:path>
                </a:pathLst>
              </a:custGeom>
              <a:solidFill>
                <a:srgbClr val="ffad2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760120" y="5398920"/>
                <a:ext cx="1047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uspe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361040" y="3164040"/>
                <a:ext cx="1447560" cy="1420560"/>
              </a:xfrm>
              <a:custGeom>
                <a:avLst/>
                <a:gdLst/>
                <a:ahLst/>
                <a:rect l="l" t="t" r="r" b="b"/>
                <a:pathLst>
                  <a:path w="1823" h="1790">
                    <a:moveTo>
                      <a:pt x="0" y="894"/>
                    </a:moveTo>
                    <a:lnTo>
                      <a:pt x="19" y="686"/>
                    </a:lnTo>
                    <a:lnTo>
                      <a:pt x="77" y="504"/>
                    </a:lnTo>
                    <a:lnTo>
                      <a:pt x="166" y="351"/>
                    </a:lnTo>
                    <a:lnTo>
                      <a:pt x="284" y="224"/>
                    </a:lnTo>
                    <a:lnTo>
                      <a:pt x="420" y="127"/>
                    </a:lnTo>
                    <a:lnTo>
                      <a:pt x="575" y="57"/>
                    </a:lnTo>
                    <a:lnTo>
                      <a:pt x="739" y="15"/>
                    </a:lnTo>
                    <a:lnTo>
                      <a:pt x="911" y="0"/>
                    </a:lnTo>
                    <a:lnTo>
                      <a:pt x="995" y="3"/>
                    </a:lnTo>
                    <a:lnTo>
                      <a:pt x="1080" y="13"/>
                    </a:lnTo>
                    <a:lnTo>
                      <a:pt x="1245" y="55"/>
                    </a:lnTo>
                    <a:lnTo>
                      <a:pt x="1397" y="124"/>
                    </a:lnTo>
                    <a:lnTo>
                      <a:pt x="1537" y="223"/>
                    </a:lnTo>
                    <a:lnTo>
                      <a:pt x="1652" y="347"/>
                    </a:lnTo>
                    <a:lnTo>
                      <a:pt x="1744" y="501"/>
                    </a:lnTo>
                    <a:lnTo>
                      <a:pt x="1802" y="683"/>
                    </a:lnTo>
                    <a:lnTo>
                      <a:pt x="1823" y="894"/>
                    </a:lnTo>
                    <a:lnTo>
                      <a:pt x="1819" y="1000"/>
                    </a:lnTo>
                    <a:lnTo>
                      <a:pt x="1804" y="1102"/>
                    </a:lnTo>
                    <a:lnTo>
                      <a:pt x="1746" y="1284"/>
                    </a:lnTo>
                    <a:lnTo>
                      <a:pt x="1657" y="1437"/>
                    </a:lnTo>
                    <a:lnTo>
                      <a:pt x="1539" y="1565"/>
                    </a:lnTo>
                    <a:lnTo>
                      <a:pt x="1402" y="1662"/>
                    </a:lnTo>
                    <a:lnTo>
                      <a:pt x="1248" y="1733"/>
                    </a:lnTo>
                    <a:lnTo>
                      <a:pt x="1084" y="1775"/>
                    </a:lnTo>
                    <a:lnTo>
                      <a:pt x="912" y="1790"/>
                    </a:lnTo>
                    <a:lnTo>
                      <a:pt x="742" y="1777"/>
                    </a:lnTo>
                    <a:lnTo>
                      <a:pt x="578" y="1735"/>
                    </a:lnTo>
                    <a:lnTo>
                      <a:pt x="426" y="1666"/>
                    </a:lnTo>
                    <a:lnTo>
                      <a:pt x="286" y="1567"/>
                    </a:lnTo>
                    <a:lnTo>
                      <a:pt x="170" y="1443"/>
                    </a:lnTo>
                    <a:lnTo>
                      <a:pt x="79" y="1287"/>
                    </a:lnTo>
                    <a:lnTo>
                      <a:pt x="21" y="1105"/>
                    </a:lnTo>
                    <a:lnTo>
                      <a:pt x="0" y="894"/>
                    </a:lnTo>
                    <a:close/>
                  </a:path>
                </a:pathLst>
              </a:custGeom>
              <a:solidFill>
                <a:srgbClr val="00cdf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509720" y="3770280"/>
                <a:ext cx="1189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execu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157880" y="3165480"/>
                <a:ext cx="1446480" cy="1420920"/>
              </a:xfrm>
              <a:custGeom>
                <a:avLst/>
                <a:gdLst/>
                <a:ahLst/>
                <a:rect l="l" t="t" r="r" b="b"/>
                <a:pathLst>
                  <a:path w="1823" h="1790">
                    <a:moveTo>
                      <a:pt x="0" y="894"/>
                    </a:moveTo>
                    <a:lnTo>
                      <a:pt x="19" y="687"/>
                    </a:lnTo>
                    <a:lnTo>
                      <a:pt x="77" y="504"/>
                    </a:lnTo>
                    <a:lnTo>
                      <a:pt x="167" y="351"/>
                    </a:lnTo>
                    <a:lnTo>
                      <a:pt x="285" y="224"/>
                    </a:lnTo>
                    <a:lnTo>
                      <a:pt x="421" y="127"/>
                    </a:lnTo>
                    <a:lnTo>
                      <a:pt x="575" y="57"/>
                    </a:lnTo>
                    <a:lnTo>
                      <a:pt x="740" y="15"/>
                    </a:lnTo>
                    <a:lnTo>
                      <a:pt x="910" y="0"/>
                    </a:lnTo>
                    <a:lnTo>
                      <a:pt x="994" y="3"/>
                    </a:lnTo>
                    <a:lnTo>
                      <a:pt x="1080" y="13"/>
                    </a:lnTo>
                    <a:lnTo>
                      <a:pt x="1244" y="55"/>
                    </a:lnTo>
                    <a:lnTo>
                      <a:pt x="1396" y="124"/>
                    </a:lnTo>
                    <a:lnTo>
                      <a:pt x="1536" y="223"/>
                    </a:lnTo>
                    <a:lnTo>
                      <a:pt x="1652" y="347"/>
                    </a:lnTo>
                    <a:lnTo>
                      <a:pt x="1743" y="501"/>
                    </a:lnTo>
                    <a:lnTo>
                      <a:pt x="1801" y="683"/>
                    </a:lnTo>
                    <a:lnTo>
                      <a:pt x="1823" y="894"/>
                    </a:lnTo>
                    <a:lnTo>
                      <a:pt x="1818" y="1000"/>
                    </a:lnTo>
                    <a:lnTo>
                      <a:pt x="1803" y="1102"/>
                    </a:lnTo>
                    <a:lnTo>
                      <a:pt x="1745" y="1284"/>
                    </a:lnTo>
                    <a:lnTo>
                      <a:pt x="1656" y="1437"/>
                    </a:lnTo>
                    <a:lnTo>
                      <a:pt x="1538" y="1565"/>
                    </a:lnTo>
                    <a:lnTo>
                      <a:pt x="1402" y="1662"/>
                    </a:lnTo>
                    <a:lnTo>
                      <a:pt x="1247" y="1733"/>
                    </a:lnTo>
                    <a:lnTo>
                      <a:pt x="1083" y="1775"/>
                    </a:lnTo>
                    <a:lnTo>
                      <a:pt x="912" y="1790"/>
                    </a:lnTo>
                    <a:lnTo>
                      <a:pt x="743" y="1777"/>
                    </a:lnTo>
                    <a:lnTo>
                      <a:pt x="579" y="1735"/>
                    </a:lnTo>
                    <a:lnTo>
                      <a:pt x="426" y="1666"/>
                    </a:lnTo>
                    <a:lnTo>
                      <a:pt x="287" y="1567"/>
                    </a:lnTo>
                    <a:lnTo>
                      <a:pt x="171" y="1443"/>
                    </a:lnTo>
                    <a:lnTo>
                      <a:pt x="80" y="1287"/>
                    </a:lnTo>
                    <a:lnTo>
                      <a:pt x="22" y="1105"/>
                    </a:lnTo>
                    <a:lnTo>
                      <a:pt x="0" y="8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7157880" y="3865320"/>
                <a:ext cx="1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7161120" y="3844800"/>
                <a:ext cx="1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7162920" y="3825720"/>
                <a:ext cx="1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7164360" y="380484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7165800" y="378432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7169040" y="3763800"/>
                <a:ext cx="1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7170840" y="374292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7172280" y="3722400"/>
                <a:ext cx="1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7174080" y="3701880"/>
                <a:ext cx="14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7182000" y="368280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7186680" y="366192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7194600" y="364140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7199280" y="362088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7207200" y="360000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7213680" y="3579840"/>
                <a:ext cx="14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7219800" y="3558960"/>
                <a:ext cx="324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7232760" y="353988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7243920" y="3519360"/>
                <a:ext cx="2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254720" y="349848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267680" y="347796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7278840" y="3457440"/>
                <a:ext cx="2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7291440" y="3436920"/>
                <a:ext cx="468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7310520" y="341748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7329600" y="339696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7348680" y="3376440"/>
                <a:ext cx="46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7367760" y="335556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7386480" y="3338640"/>
                <a:ext cx="50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7407360" y="332388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7427880" y="330804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7448400" y="3293640"/>
                <a:ext cx="50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7467480" y="3279240"/>
                <a:ext cx="6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88360" y="3266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494480" y="326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7508880" y="325548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7529400" y="324612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7550280" y="323640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7570800" y="322848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V="1">
                <a:off x="7591320" y="321948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7612200" y="3209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7616880" y="3208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7631280" y="3204720"/>
                <a:ext cx="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7651800" y="3198960"/>
                <a:ext cx="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7672320" y="319356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7693200" y="318888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713720" y="318456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734240" y="317988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754760" y="317664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7775640" y="317340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7794720" y="3171960"/>
                <a:ext cx="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7815240" y="3169800"/>
                <a:ext cx="6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7835760" y="316872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856640" y="316692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877160" y="3165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881840" y="3165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897680" y="3166920"/>
                <a:ext cx="5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918560" y="316692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939080" y="3168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959600" y="3170160"/>
                <a:ext cx="5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7978680" y="3171960"/>
                <a:ext cx="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999560" y="317340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20080" y="317664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8040600" y="318240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8061480" y="318780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082000" y="319248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102520" y="319716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123400" y="320364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142120" y="3208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8148600" y="3208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163000" y="3218040"/>
                <a:ext cx="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183520" y="322740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204040" y="323532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224920" y="324468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245440" y="325440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265960" y="3263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271000" y="32670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286840" y="327816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305920" y="3292560"/>
                <a:ext cx="61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326440" y="3306600"/>
                <a:ext cx="6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346960" y="332100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8367840" y="33346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6" y="4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386920" y="3352680"/>
                <a:ext cx="61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405640" y="3373560"/>
                <a:ext cx="50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426520" y="339408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443800" y="3414600"/>
                <a:ext cx="64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8462880" y="3434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6" y="1"/>
                    </a:lnTo>
                    <a:lnTo>
                      <a:pt x="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477280" y="345600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489880" y="3475080"/>
                <a:ext cx="32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501040" y="3495600"/>
                <a:ext cx="32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513640" y="351648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526600" y="3537000"/>
                <a:ext cx="28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8537400" y="35575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545680" y="357840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553600" y="359892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559720" y="3618000"/>
                <a:ext cx="1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566200" y="3638520"/>
                <a:ext cx="14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572680" y="3659040"/>
                <a:ext cx="1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578800" y="367992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8585280" y="37004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9"/>
                    </a:moveTo>
                    <a:lnTo>
                      <a:pt x="2" y="3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589960" y="3720960"/>
                <a:ext cx="1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591400" y="374184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593200" y="3760920"/>
                <a:ext cx="144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594640" y="378144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596440" y="3801960"/>
                <a:ext cx="1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599320" y="382284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601120" y="384336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604360" y="386388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8604360" y="388476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8602200" y="3903840"/>
                <a:ext cx="18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8602200" y="392436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8601120" y="394488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8598960" y="3965400"/>
                <a:ext cx="1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96440" y="398628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8593200" y="400680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8589960" y="4027320"/>
                <a:ext cx="1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8585280" y="4046400"/>
                <a:ext cx="14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8578440" y="406728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8572680" y="408780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8566200" y="4108320"/>
                <a:ext cx="1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8559360" y="4129200"/>
                <a:ext cx="1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8553600" y="414972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8547120" y="4168800"/>
                <a:ext cx="14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8537040" y="4189320"/>
                <a:ext cx="32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8524440" y="421020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8513280" y="423072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8500680" y="425124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8489520" y="427212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8476920" y="429264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8462520" y="4311720"/>
                <a:ext cx="46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8443800" y="4332240"/>
                <a:ext cx="50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8424720" y="4352760"/>
                <a:ext cx="50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8405640" y="4373640"/>
                <a:ext cx="50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8386560" y="439416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8367480" y="441324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8346960" y="442764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8326080" y="444168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8305560" y="445608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8285040" y="447192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8264160" y="448452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8243640" y="449424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8223120" y="4503600"/>
                <a:ext cx="6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8204040" y="451332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8183160" y="452268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8162640" y="453240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8142120" y="4541760"/>
                <a:ext cx="5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8121240" y="454644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8100720" y="455148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 flipV="1">
                <a:off x="8080200" y="4557240"/>
                <a:ext cx="5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 flipV="1">
                <a:off x="8059680" y="4562640"/>
                <a:ext cx="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8038800" y="4567320"/>
                <a:ext cx="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018640" y="45720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7999200" y="457524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7978320" y="457848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7957800" y="457992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7937280" y="458136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7916760" y="458316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flipV="1">
                <a:off x="7896240" y="4584240"/>
                <a:ext cx="6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 flipV="1">
                <a:off x="7875360" y="4584240"/>
                <a:ext cx="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7856280" y="458460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7835760" y="458316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7814880" y="458136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7794360" y="457992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7773840" y="4578480"/>
                <a:ext cx="5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7752960" y="457668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 flipV="1">
                <a:off x="7732440" y="4572000"/>
                <a:ext cx="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 flipV="1">
                <a:off x="7711920" y="4567320"/>
                <a:ext cx="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flipV="1">
                <a:off x="7692840" y="456048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flipV="1">
                <a:off x="7671960" y="455616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flipV="1">
                <a:off x="7651440" y="455148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 flipV="1">
                <a:off x="7630920" y="454608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 flipV="1">
                <a:off x="7610040" y="453816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flipV="1">
                <a:off x="7589520" y="4530240"/>
                <a:ext cx="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 flipV="1">
                <a:off x="7569000" y="4521240"/>
                <a:ext cx="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 flipV="1">
                <a:off x="7548480" y="4511160"/>
                <a:ext cx="6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 flipV="1">
                <a:off x="7529400" y="450180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 flipV="1">
                <a:off x="7508520" y="4492800"/>
                <a:ext cx="4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 flipV="1">
                <a:off x="7488000" y="4481640"/>
                <a:ext cx="4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 flipV="1">
                <a:off x="7467480" y="446688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 flipV="1">
                <a:off x="7446600" y="4452480"/>
                <a:ext cx="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 flipV="1">
                <a:off x="7426080" y="4438800"/>
                <a:ext cx="4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 flipV="1">
                <a:off x="7405560" y="4424040"/>
                <a:ext cx="50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7385040" y="4409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385040" y="4408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 flipV="1">
                <a:off x="7367760" y="4389120"/>
                <a:ext cx="28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7346520" y="4368600"/>
                <a:ext cx="4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 flipV="1">
                <a:off x="7327800" y="4347720"/>
                <a:ext cx="64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7310160" y="432720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7292880" y="4309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291440" y="4307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 flipV="1">
                <a:off x="7280280" y="4286160"/>
                <a:ext cx="144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 flipV="1">
                <a:off x="7267320" y="4267080"/>
                <a:ext cx="32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 flipV="1">
                <a:off x="7254360" y="4246200"/>
                <a:ext cx="32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 flipH="1" flipV="1">
              <a:off x="7243920" y="4225680"/>
              <a:ext cx="2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 flipV="1">
              <a:off x="7230600" y="4205160"/>
              <a:ext cx="32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7221600" y="418788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219800" y="41846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7213680" y="4163760"/>
              <a:ext cx="1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7206840" y="4143240"/>
              <a:ext cx="18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flipV="1">
              <a:off x="7201080" y="4124160"/>
              <a:ext cx="1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 flipV="1">
              <a:off x="7194600" y="4103280"/>
              <a:ext cx="1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flipV="1">
              <a:off x="7187760" y="4082760"/>
              <a:ext cx="1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 flipV="1">
              <a:off x="7182000" y="4062240"/>
              <a:ext cx="1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7175520" y="4043520"/>
              <a:ext cx="1440" cy="28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75520" y="4041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7171920" y="4020840"/>
              <a:ext cx="18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>
              <a:off x="7170840" y="4000320"/>
              <a:ext cx="14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69040" y="3981240"/>
              <a:ext cx="1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165440" y="3960360"/>
              <a:ext cx="1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7164360" y="3939840"/>
              <a:ext cx="1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 flipV="1">
              <a:off x="7162920" y="3919320"/>
              <a:ext cx="1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7161120" y="3898800"/>
              <a:ext cx="180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7157880" y="3874320"/>
              <a:ext cx="1800" cy="97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0"/>
                  </a:move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72880" y="3773520"/>
              <a:ext cx="87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zomb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593720" y="2158920"/>
              <a:ext cx="976320" cy="916200"/>
            </a:xfrm>
            <a:custGeom>
              <a:avLst/>
              <a:gdLst/>
              <a:ahLst/>
              <a:rect l="l" t="t" r="r" b="b"/>
              <a:pathLst>
                <a:path w="1231" h="1152">
                  <a:moveTo>
                    <a:pt x="1231" y="0"/>
                  </a:moveTo>
                  <a:lnTo>
                    <a:pt x="1013" y="70"/>
                  </a:lnTo>
                  <a:lnTo>
                    <a:pt x="808" y="168"/>
                  </a:lnTo>
                  <a:lnTo>
                    <a:pt x="621" y="287"/>
                  </a:lnTo>
                  <a:lnTo>
                    <a:pt x="450" y="427"/>
                  </a:lnTo>
                  <a:lnTo>
                    <a:pt x="302" y="584"/>
                  </a:lnTo>
                  <a:lnTo>
                    <a:pt x="177" y="759"/>
                  </a:lnTo>
                  <a:lnTo>
                    <a:pt x="76" y="949"/>
                  </a:lnTo>
                  <a:lnTo>
                    <a:pt x="0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587600" y="2897280"/>
              <a:ext cx="110880" cy="193680"/>
            </a:xfrm>
            <a:custGeom>
              <a:avLst/>
              <a:gdLst/>
              <a:ahLst/>
              <a:rect l="l" t="t" r="r" b="b"/>
              <a:pathLst>
                <a:path w="140" h="246">
                  <a:moveTo>
                    <a:pt x="140" y="42"/>
                  </a:moveTo>
                  <a:lnTo>
                    <a:pt x="0" y="246"/>
                  </a:lnTo>
                  <a:lnTo>
                    <a:pt x="27" y="0"/>
                  </a:lnTo>
                  <a:lnTo>
                    <a:pt x="140" y="4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84480" y="3216240"/>
              <a:ext cx="2305080" cy="235080"/>
            </a:xfrm>
            <a:custGeom>
              <a:avLst/>
              <a:gdLst/>
              <a:ahLst/>
              <a:rect l="l" t="t" r="r" b="b"/>
              <a:pathLst>
                <a:path w="2904" h="297">
                  <a:moveTo>
                    <a:pt x="2904" y="297"/>
                  </a:moveTo>
                  <a:lnTo>
                    <a:pt x="2551" y="168"/>
                  </a:lnTo>
                  <a:lnTo>
                    <a:pt x="2189" y="75"/>
                  </a:lnTo>
                  <a:lnTo>
                    <a:pt x="1823" y="19"/>
                  </a:lnTo>
                  <a:lnTo>
                    <a:pt x="1453" y="0"/>
                  </a:lnTo>
                  <a:lnTo>
                    <a:pt x="1363" y="0"/>
                  </a:lnTo>
                  <a:lnTo>
                    <a:pt x="1269" y="3"/>
                  </a:lnTo>
                  <a:lnTo>
                    <a:pt x="1084" y="17"/>
                  </a:lnTo>
                  <a:lnTo>
                    <a:pt x="716" y="73"/>
                  </a:lnTo>
                  <a:lnTo>
                    <a:pt x="355" y="164"/>
                  </a:lnTo>
                  <a:lnTo>
                    <a:pt x="0" y="2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68640" y="3346560"/>
              <a:ext cx="193680" cy="110880"/>
            </a:xfrm>
            <a:custGeom>
              <a:avLst/>
              <a:gdLst/>
              <a:ahLst/>
              <a:rect l="l" t="t" r="r" b="b"/>
              <a:pathLst>
                <a:path w="246" h="139">
                  <a:moveTo>
                    <a:pt x="246" y="113"/>
                  </a:moveTo>
                  <a:lnTo>
                    <a:pt x="0" y="139"/>
                  </a:lnTo>
                  <a:lnTo>
                    <a:pt x="204" y="0"/>
                  </a:lnTo>
                  <a:lnTo>
                    <a:pt x="246" y="1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31920" y="4200480"/>
              <a:ext cx="2193840" cy="190440"/>
            </a:xfrm>
            <a:custGeom>
              <a:avLst/>
              <a:gdLst/>
              <a:ahLst/>
              <a:rect l="l" t="t" r="r" b="b"/>
              <a:pathLst>
                <a:path w="2764" h="240">
                  <a:moveTo>
                    <a:pt x="0" y="15"/>
                  </a:moveTo>
                  <a:lnTo>
                    <a:pt x="338" y="113"/>
                  </a:lnTo>
                  <a:lnTo>
                    <a:pt x="684" y="185"/>
                  </a:lnTo>
                  <a:lnTo>
                    <a:pt x="1031" y="226"/>
                  </a:lnTo>
                  <a:lnTo>
                    <a:pt x="1205" y="235"/>
                  </a:lnTo>
                  <a:lnTo>
                    <a:pt x="1292" y="238"/>
                  </a:lnTo>
                  <a:lnTo>
                    <a:pt x="1382" y="240"/>
                  </a:lnTo>
                  <a:lnTo>
                    <a:pt x="1730" y="225"/>
                  </a:lnTo>
                  <a:lnTo>
                    <a:pt x="2079" y="178"/>
                  </a:lnTo>
                  <a:lnTo>
                    <a:pt x="2423" y="105"/>
                  </a:lnTo>
                  <a:lnTo>
                    <a:pt x="27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46480" y="4195800"/>
              <a:ext cx="196920" cy="101520"/>
            </a:xfrm>
            <a:custGeom>
              <a:avLst/>
              <a:gdLst/>
              <a:ahLst/>
              <a:rect l="l" t="t" r="r" b="b"/>
              <a:pathLst>
                <a:path w="248" h="129">
                  <a:moveTo>
                    <a:pt x="0" y="14"/>
                  </a:moveTo>
                  <a:lnTo>
                    <a:pt x="248" y="0"/>
                  </a:lnTo>
                  <a:lnTo>
                    <a:pt x="36" y="1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24440" y="2138400"/>
              <a:ext cx="1150920" cy="1031760"/>
            </a:xfrm>
            <a:custGeom>
              <a:avLst/>
              <a:gdLst/>
              <a:ahLst/>
              <a:rect l="l" t="t" r="r" b="b"/>
              <a:pathLst>
                <a:path w="1450" h="1299">
                  <a:moveTo>
                    <a:pt x="1450" y="1299"/>
                  </a:moveTo>
                  <a:lnTo>
                    <a:pt x="1353" y="1053"/>
                  </a:lnTo>
                  <a:lnTo>
                    <a:pt x="1226" y="825"/>
                  </a:lnTo>
                  <a:lnTo>
                    <a:pt x="1074" y="620"/>
                  </a:lnTo>
                  <a:lnTo>
                    <a:pt x="896" y="437"/>
                  </a:lnTo>
                  <a:lnTo>
                    <a:pt x="698" y="283"/>
                  </a:lnTo>
                  <a:lnTo>
                    <a:pt x="481" y="156"/>
                  </a:lnTo>
                  <a:lnTo>
                    <a:pt x="248" y="6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06800" y="2133720"/>
              <a:ext cx="196920" cy="93600"/>
            </a:xfrm>
            <a:custGeom>
              <a:avLst/>
              <a:gdLst/>
              <a:ahLst/>
              <a:rect l="l" t="t" r="r" b="b"/>
              <a:pathLst>
                <a:path w="247" h="116">
                  <a:moveTo>
                    <a:pt x="218" y="116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218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1492200" y="1328400"/>
              <a:ext cx="1800" cy="17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44680" y="2906640"/>
              <a:ext cx="95040" cy="190440"/>
            </a:xfrm>
            <a:custGeom>
              <a:avLst/>
              <a:gdLst/>
              <a:ahLst/>
              <a:rect l="l" t="t" r="r" b="b"/>
              <a:pathLst>
                <a:path w="120" h="240">
                  <a:moveTo>
                    <a:pt x="120" y="0"/>
                  </a:moveTo>
                  <a:lnTo>
                    <a:pt x="60" y="240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813280" y="3865680"/>
              <a:ext cx="1217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58000" y="3817800"/>
              <a:ext cx="190440" cy="95400"/>
            </a:xfrm>
            <a:custGeom>
              <a:avLst/>
              <a:gdLst/>
              <a:ahLst/>
              <a:rect l="l" t="t" r="r" b="b"/>
              <a:pathLst>
                <a:path w="241" h="119">
                  <a:moveTo>
                    <a:pt x="0" y="0"/>
                  </a:moveTo>
                  <a:lnTo>
                    <a:pt x="241" y="60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95440" y="4656240"/>
              <a:ext cx="1042920" cy="869760"/>
            </a:xfrm>
            <a:custGeom>
              <a:avLst/>
              <a:gdLst/>
              <a:ahLst/>
              <a:rect l="l" t="t" r="r" b="b"/>
              <a:pathLst>
                <a:path w="1315" h="1096">
                  <a:moveTo>
                    <a:pt x="0" y="0"/>
                  </a:moveTo>
                  <a:lnTo>
                    <a:pt x="83" y="201"/>
                  </a:lnTo>
                  <a:lnTo>
                    <a:pt x="194" y="390"/>
                  </a:lnTo>
                  <a:lnTo>
                    <a:pt x="332" y="560"/>
                  </a:lnTo>
                  <a:lnTo>
                    <a:pt x="493" y="714"/>
                  </a:lnTo>
                  <a:lnTo>
                    <a:pt x="672" y="844"/>
                  </a:lnTo>
                  <a:lnTo>
                    <a:pt x="871" y="953"/>
                  </a:lnTo>
                  <a:lnTo>
                    <a:pt x="1085" y="1037"/>
                  </a:lnTo>
                  <a:lnTo>
                    <a:pt x="1315" y="10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487520" y="4640400"/>
              <a:ext cx="115920" cy="193680"/>
            </a:xfrm>
            <a:custGeom>
              <a:avLst/>
              <a:gdLst/>
              <a:ahLst/>
              <a:rect l="l" t="t" r="r" b="b"/>
              <a:pathLst>
                <a:path w="146" h="246">
                  <a:moveTo>
                    <a:pt x="34" y="246"/>
                  </a:moveTo>
                  <a:lnTo>
                    <a:pt x="0" y="0"/>
                  </a:lnTo>
                  <a:lnTo>
                    <a:pt x="146" y="201"/>
                  </a:lnTo>
                  <a:lnTo>
                    <a:pt x="34" y="24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059360" y="4581360"/>
              <a:ext cx="1014120" cy="966960"/>
            </a:xfrm>
            <a:custGeom>
              <a:avLst/>
              <a:gdLst/>
              <a:ahLst/>
              <a:rect l="l" t="t" r="r" b="b"/>
              <a:pathLst>
                <a:path w="1278" h="1217">
                  <a:moveTo>
                    <a:pt x="0" y="1217"/>
                  </a:moveTo>
                  <a:lnTo>
                    <a:pt x="225" y="1169"/>
                  </a:lnTo>
                  <a:lnTo>
                    <a:pt x="439" y="1084"/>
                  </a:lnTo>
                  <a:lnTo>
                    <a:pt x="635" y="969"/>
                  </a:lnTo>
                  <a:lnTo>
                    <a:pt x="814" y="822"/>
                  </a:lnTo>
                  <a:lnTo>
                    <a:pt x="969" y="651"/>
                  </a:lnTo>
                  <a:lnTo>
                    <a:pt x="1101" y="454"/>
                  </a:lnTo>
                  <a:lnTo>
                    <a:pt x="1204" y="237"/>
                  </a:lnTo>
                  <a:lnTo>
                    <a:pt x="12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41720" y="5465880"/>
              <a:ext cx="195480" cy="9360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247" y="117"/>
                  </a:moveTo>
                  <a:lnTo>
                    <a:pt x="0" y="108"/>
                  </a:lnTo>
                  <a:lnTo>
                    <a:pt x="222" y="0"/>
                  </a:lnTo>
                  <a:lnTo>
                    <a:pt x="247" y="1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9120" y="1763640"/>
              <a:ext cx="79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65240" y="2193840"/>
              <a:ext cx="76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925280" y="2527200"/>
              <a:ext cx="76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530080" y="3649680"/>
              <a:ext cx="137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12120" y="511164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-/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58240" y="5114880"/>
              <a:ext cx="85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nd of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16480" y="540540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-/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56040" y="345456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ermin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C49-24A8-4931-A212-D530DAC38C8E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7" name=""/>
          <p:cNvSpPr/>
          <p:nvPr/>
        </p:nvSpPr>
        <p:spPr>
          <a:xfrm>
            <a:off x="468360" y="1052640"/>
            <a:ext cx="8280360" cy="52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30480" y="1052640"/>
            <a:ext cx="8685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r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Prozessumgeb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rozessparame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Priorit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k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brauchte CPU-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artezeit seit letztem Aktiv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offene Datei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Dateien, die der Prozess geöffnet 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Umgebungsvariable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Terminal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ogin-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ogin-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chpfad für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21A-AAC5-4BD9-ADF6-B302C5A69427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3203640" y="1062000"/>
          <a:ext cx="2670120" cy="19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062000"/>
                    <a:ext cx="267012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5" name=""/>
          <p:cNvSpPr/>
          <p:nvPr/>
        </p:nvSpPr>
        <p:spPr>
          <a:xfrm>
            <a:off x="2484360" y="1628640"/>
            <a:ext cx="647640" cy="287640"/>
          </a:xfrm>
          <a:prstGeom prst="leftRightArrow">
            <a:avLst>
              <a:gd name="adj1" fmla="val 50000"/>
              <a:gd name="adj2" fmla="val 4482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108000" y="1052640"/>
          <a:ext cx="2376360" cy="168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1052640"/>
                    <a:ext cx="237636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8" name=""/>
          <p:cNvSpPr/>
          <p:nvPr/>
        </p:nvSpPr>
        <p:spPr>
          <a:xfrm>
            <a:off x="3557520" y="1287360"/>
            <a:ext cx="18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log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$ less spr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659640" y="1052640"/>
            <a:ext cx="2012400" cy="143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nux-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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940360" y="1628640"/>
            <a:ext cx="647640" cy="287640"/>
          </a:xfrm>
          <a:prstGeom prst="leftRightArrow">
            <a:avLst>
              <a:gd name="adj1" fmla="val 50000"/>
              <a:gd name="adj2" fmla="val 4482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09680" y="3087720"/>
            <a:ext cx="8351640" cy="3363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Login-Prozes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findet den Namen des Login-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er Datei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etc/passwd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. Für jeden User ist (in der letz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le) ein Eintrag mit folgenden Informationen enthalt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enutzerkenn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883696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enutzernummer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Gruppennumme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Login-Verzeichni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home/s883696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Login-Program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bin/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DF3-3ACC-4031-A8B8-6FFE7DA5D2A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6" name=""/>
          <p:cNvSpPr/>
          <p:nvPr/>
        </p:nvSpPr>
        <p:spPr>
          <a:xfrm>
            <a:off x="1531800" y="952560"/>
            <a:ext cx="5997600" cy="550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Prozessumgebung für 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enutzernam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s88963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Programm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Elternprogram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offene Datei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/dev/pts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ru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aktuelles Verzeichni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/home/s8896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Prozessnumme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2578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ElternPPID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202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A0B-F9ED-4C85-83CD-D252CD1AC0CD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4199040" y="1090440"/>
            <a:ext cx="900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799240" y="1801800"/>
            <a:ext cx="9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71960" y="1801800"/>
            <a:ext cx="9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421000" y="1116000"/>
            <a:ext cx="846000" cy="30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"/>
          <p:cNvSpPr/>
          <p:nvPr/>
        </p:nvSpPr>
        <p:spPr>
          <a:xfrm>
            <a:off x="324000" y="2565360"/>
            <a:ext cx="8569080" cy="36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Prozesse erzeug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rozessumgebung des Elternprozesses wird duplizi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for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Elternprozess wartet 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wai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Programm less wird in den Kindprozess geladen 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exec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öffnet die Datei spruch und zeigt deren Inhalt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Benutzer beendet less mit 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Kindprozess endet 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exi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 mit einem Signal an 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ternprozess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Elternprozess beendet Wartezustand und läuft wei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1195200" y="1052640"/>
            <a:ext cx="6346800" cy="1109520"/>
            <a:chOff x="1195200" y="1052640"/>
            <a:chExt cx="6346800" cy="1109520"/>
          </a:xfrm>
        </p:grpSpPr>
        <p:sp>
          <p:nvSpPr>
            <p:cNvPr id="1387" name=""/>
            <p:cNvSpPr/>
            <p:nvPr/>
          </p:nvSpPr>
          <p:spPr>
            <a:xfrm>
              <a:off x="1195200" y="1052640"/>
              <a:ext cx="6346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ash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fork()              wait()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as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ash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exec() 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less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exit(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239480" y="1441440"/>
              <a:ext cx="15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23840" y="1441440"/>
              <a:ext cx="38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23840" y="2162160"/>
              <a:ext cx="38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2823840" y="1441080"/>
              <a:ext cx="0" cy="72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6711480" y="1441080"/>
              <a:ext cx="0" cy="72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11480" y="144144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901-E710-4AC9-99B0-87E6E0A82AF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2395440" y="950760"/>
            <a:ext cx="90036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11840" y="1662120"/>
            <a:ext cx="9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71960" y="1662120"/>
            <a:ext cx="9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199040" y="950760"/>
            <a:ext cx="900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2" name=""/>
          <p:cNvSpPr/>
          <p:nvPr/>
        </p:nvSpPr>
        <p:spPr>
          <a:xfrm>
            <a:off x="324000" y="2276640"/>
            <a:ext cx="849780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ystemcal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or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Eine exakte Kopie des Elternprozesses wird angeleg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er mit eigenen PID. Konzept der Vererbung der Pro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ssumgebung an den Kindproz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xec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Das laufende Programm wird durch ein anderes überla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rt. PID und Prozessumgebung bleiben unverände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wai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Elternprozess wird in Wartezustand versetzt. Die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tand wird durch das exit-Signal vom Kindproz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end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xi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Prozess wird beendet. Alle belegten Betriebsmittel w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n freigegeben. Der elternprozess erhält ein Signal 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nn das Endestatus des Kindprozesses überneh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1195200" y="907920"/>
            <a:ext cx="6346800" cy="1109880"/>
            <a:chOff x="1195200" y="907920"/>
            <a:chExt cx="6346800" cy="1109880"/>
          </a:xfrm>
        </p:grpSpPr>
        <p:sp>
          <p:nvSpPr>
            <p:cNvPr id="1404" name=""/>
            <p:cNvSpPr/>
            <p:nvPr/>
          </p:nvSpPr>
          <p:spPr>
            <a:xfrm>
              <a:off x="1195200" y="907920"/>
              <a:ext cx="6346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ash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fork()              wait()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as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bash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exec() 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less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exit(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39480" y="1297080"/>
              <a:ext cx="15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1297080"/>
              <a:ext cx="388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23840" y="2017800"/>
              <a:ext cx="38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2823840" y="129708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6711480" y="129708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711480" y="1297080"/>
              <a:ext cx="79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05D-3578-4DE2-9A82-820715BBBF3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4041720" y="947880"/>
            <a:ext cx="900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6" name=""/>
          <p:cNvSpPr/>
          <p:nvPr/>
        </p:nvSpPr>
        <p:spPr>
          <a:xfrm>
            <a:off x="466560" y="3645000"/>
            <a:ext cx="828216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Vordergrundprozes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lockiert meist das Terminal, so d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 neuer Befehl erst nach Beendigung des Vordergrund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zesses abgesetzt werden kan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Hintergrundprozes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empfängt keine Tastatureingabe mehr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 dass ein User nach dem Starten sofort weitere Befeh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setzen kan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gabe von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am Ende eines Befehles startet den Befehl 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intergru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1983240" y="907920"/>
            <a:ext cx="4964760" cy="1109880"/>
            <a:chOff x="1983240" y="907920"/>
            <a:chExt cx="4964760" cy="1109880"/>
          </a:xfrm>
        </p:grpSpPr>
        <p:sp>
          <p:nvSpPr>
            <p:cNvPr id="1418" name=""/>
            <p:cNvSpPr/>
            <p:nvPr/>
          </p:nvSpPr>
          <p:spPr>
            <a:xfrm>
              <a:off x="1983240" y="907920"/>
              <a:ext cx="325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bash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wait(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find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031840" y="1297080"/>
              <a:ext cx="15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16200" y="1297080"/>
              <a:ext cx="1747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616200" y="2017800"/>
              <a:ext cx="174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3616200" y="129708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5364000" y="129708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64000" y="1297080"/>
              <a:ext cx="15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983240" y="2174760"/>
            <a:ext cx="28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f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031840" y="2563920"/>
            <a:ext cx="340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616200" y="3284640"/>
            <a:ext cx="174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3616200" y="256392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364000" y="256392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364000" y="256392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510160" y="2708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096-9BC2-41D4-B2CC-7D6E24D44A3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71960" y="40464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taturbele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67480" y="3500280"/>
            <a:ext cx="866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le beend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n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hreibfehler korrigier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Backspace&gt;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 Zeichen lö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le lö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gabe eines Programms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hal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q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laufen l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c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abbru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gabe beend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de der Tastatureingabe(E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58920" y="1052640"/>
          <a:ext cx="6840360" cy="22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052640"/>
                    <a:ext cx="684036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733-87B6-4D5B-A662-6A45DC6E76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4041720" y="947880"/>
            <a:ext cx="900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7" name=""/>
          <p:cNvGrpSpPr/>
          <p:nvPr/>
        </p:nvGrpSpPr>
        <p:grpSpPr>
          <a:xfrm>
            <a:off x="1983240" y="907920"/>
            <a:ext cx="4964760" cy="1109880"/>
            <a:chOff x="1983240" y="907920"/>
            <a:chExt cx="4964760" cy="1109880"/>
          </a:xfrm>
        </p:grpSpPr>
        <p:sp>
          <p:nvSpPr>
            <p:cNvPr id="1438" name=""/>
            <p:cNvSpPr/>
            <p:nvPr/>
          </p:nvSpPr>
          <p:spPr>
            <a:xfrm>
              <a:off x="1983240" y="907920"/>
              <a:ext cx="325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bash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wait(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1" lang="de-DE" sz="2200" spc="-1" strike="noStrike">
                  <a:solidFill>
                    <a:srgbClr val="333399"/>
                  </a:solidFill>
                  <a:latin typeface="Arial"/>
                </a:rPr>
                <a:t>find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031840" y="1297080"/>
              <a:ext cx="15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616200" y="1297080"/>
              <a:ext cx="1747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616200" y="2017800"/>
              <a:ext cx="174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3616200" y="129708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364000" y="129708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64000" y="1297080"/>
              <a:ext cx="15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1983240" y="2174760"/>
            <a:ext cx="286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f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031840" y="2563920"/>
            <a:ext cx="340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16200" y="3284640"/>
            <a:ext cx="174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3616200" y="256392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5364000" y="256392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64000" y="256392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510160" y="2708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455480" y="4248000"/>
            <a:ext cx="6398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 -name README &gt; gefunden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sleep 20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D5E-2535-4D96-80EF-D1F712EFC776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7" name=""/>
          <p:cNvGrpSpPr/>
          <p:nvPr/>
        </p:nvGrpSpPr>
        <p:grpSpPr>
          <a:xfrm>
            <a:off x="2114640" y="1038240"/>
            <a:ext cx="6273720" cy="4676760"/>
            <a:chOff x="2114640" y="1038240"/>
            <a:chExt cx="6273720" cy="4676760"/>
          </a:xfrm>
        </p:grpSpPr>
        <p:sp>
          <p:nvSpPr>
            <p:cNvPr id="1458" name=""/>
            <p:cNvSpPr/>
            <p:nvPr/>
          </p:nvSpPr>
          <p:spPr>
            <a:xfrm>
              <a:off x="4602240" y="1038240"/>
              <a:ext cx="1252440" cy="125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zess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99"/>
                  </a:solidFill>
                  <a:latin typeface="Arial"/>
                </a:rPr>
                <a:t>PI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14640" y="2773440"/>
              <a:ext cx="1252440" cy="125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zess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99"/>
                  </a:solidFill>
                  <a:latin typeface="Arial"/>
                </a:rPr>
                <a:t>PID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03680" y="2773440"/>
              <a:ext cx="1252440" cy="125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zess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99"/>
                  </a:solidFill>
                  <a:latin typeface="Arial"/>
                </a:rPr>
                <a:t>PID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135920" y="2773440"/>
              <a:ext cx="1252440" cy="125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zess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99"/>
                  </a:solidFill>
                  <a:latin typeface="Arial"/>
                </a:rPr>
                <a:t>PID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35920" y="4462560"/>
              <a:ext cx="1252440" cy="125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zess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99"/>
                  </a:solidFill>
                  <a:latin typeface="Arial"/>
                </a:rPr>
                <a:t>PID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229360" y="230328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4" name=""/>
            <p:cNvCxnSpPr>
              <a:stCxn id="1458" idx="3"/>
              <a:endCxn id="1459" idx="7"/>
            </p:cNvCxnSpPr>
            <p:nvPr/>
          </p:nvCxnSpPr>
          <p:spPr>
            <a:xfrm flipH="1">
              <a:off x="3182400" y="2106360"/>
              <a:ext cx="1604160" cy="85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5" name=""/>
            <p:cNvCxnSpPr>
              <a:stCxn id="1458" idx="5"/>
              <a:endCxn id="1461" idx="1"/>
            </p:cNvCxnSpPr>
            <p:nvPr/>
          </p:nvCxnSpPr>
          <p:spPr>
            <a:xfrm>
              <a:off x="5670360" y="2106360"/>
              <a:ext cx="1650240" cy="85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6" name=""/>
            <p:cNvCxnSpPr>
              <a:stCxn id="1461" idx="4"/>
              <a:endCxn id="1462" idx="0"/>
            </p:cNvCxnSpPr>
            <p:nvPr/>
          </p:nvCxnSpPr>
          <p:spPr>
            <a:xfrm>
              <a:off x="7762320" y="4025520"/>
              <a:ext cx="108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67" name=""/>
          <p:cNvSpPr/>
          <p:nvPr/>
        </p:nvSpPr>
        <p:spPr>
          <a:xfrm>
            <a:off x="803160" y="11970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Prozesshiera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2880" y="5072040"/>
            <a:ext cx="785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Eltern-Vater-Proz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eder Kindprozess hat nur einen Vaterprozes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eder Vaterprozess kann mehrere Kindprozesse ha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259-73C3-40C7-B4D8-C5D9F025771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3" name=""/>
          <p:cNvSpPr/>
          <p:nvPr/>
        </p:nvSpPr>
        <p:spPr>
          <a:xfrm>
            <a:off x="484200" y="966960"/>
            <a:ext cx="8218440" cy="26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bash        </a:t>
            </a:r>
            <a:r>
              <a:rPr b="1" lang="de-DE" sz="2400" spc="-1" strike="noStrike">
                <a:solidFill>
                  <a:srgbClr val="333399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Erzeugen einer Subsh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$ date    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mpt der Subsh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o 1 Feb 1993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ung des date-Komman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$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er Subsh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$ &lt;Strg&gt; d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erlassen der Subsh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             </a:t>
            </a:r>
            <a:r>
              <a:rPr b="1" lang="de-DE" sz="2400" spc="-1" strike="noStrike">
                <a:solidFill>
                  <a:srgbClr val="333399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Prompt der Elternsh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86280" y="5584680"/>
            <a:ext cx="84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Prozess mit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PID 1 ist de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init-Prozes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. Er wird beim Hoch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ahren des Systems automatisch gestart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618080" y="4557600"/>
            <a:ext cx="900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689360" y="3833640"/>
            <a:ext cx="900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070640" y="3803760"/>
            <a:ext cx="467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as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         wai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as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wait()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716200" y="491328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538520" y="5446800"/>
            <a:ext cx="119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17440" y="4192560"/>
            <a:ext cx="21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340080" y="4192560"/>
            <a:ext cx="3395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2716200" y="419256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6835680" y="419256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835680" y="4192560"/>
            <a:ext cx="1252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4540320" y="4930560"/>
            <a:ext cx="0" cy="50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638600" y="4913280"/>
            <a:ext cx="1098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710320" y="4913280"/>
            <a:ext cx="11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5745240" y="4930560"/>
            <a:ext cx="0" cy="50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57040" y="502920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03280" y="381960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PPI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633320" y="44928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PPID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404440" y="38070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00"/>
                </a:solidFill>
                <a:latin typeface="Arial"/>
              </a:rPr>
              <a:t>PID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490560" y="44928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00"/>
                </a:solidFill>
                <a:latin typeface="Arial"/>
              </a:rPr>
              <a:t>PID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465360" y="504684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9900"/>
                </a:solidFill>
                <a:latin typeface="Arial"/>
              </a:rPr>
              <a:t>PPID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95560" y="504828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00"/>
                </a:solidFill>
                <a:latin typeface="Arial"/>
              </a:rPr>
              <a:t>PID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4AE-295E-4E6F-82B6-491F6EA4D96A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0" name=""/>
          <p:cNvSpPr/>
          <p:nvPr/>
        </p:nvSpPr>
        <p:spPr>
          <a:xfrm>
            <a:off x="324000" y="1103400"/>
            <a:ext cx="8424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ps Op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process status)  zeigt Status der aktiven 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49280" y="3038400"/>
            <a:ext cx="8247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lle Prozesse mit Terminalverbind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x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ch Prozesse ohne Terminalverbindung (Systemproz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f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trukturierte Ans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anges Li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usätzliche Ausgabe des Benutzernamens und Startz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ur laufende Prozesse werden angezei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9D6-E82E-4B49-AD35-89349730C90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6" name=""/>
          <p:cNvSpPr/>
          <p:nvPr/>
        </p:nvSpPr>
        <p:spPr>
          <a:xfrm>
            <a:off x="441360" y="1271520"/>
            <a:ext cx="84499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altenbeschreibung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SER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nutzerkenn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ID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nutzernum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ID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PID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ID des Elternproz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RI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esamtpriorität des Proz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VSZ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esamtgröße des Prozesses in 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SS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röße des Programmes im Hauptspei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TY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tens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%CPU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erbrauchte Prozessorzeit / Prozess-Gesamtlaufz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%MEM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nteil des Prozesses am Hauptspei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A63-55AE-4701-8DCA-5B3E3C35369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1" name=""/>
          <p:cNvSpPr/>
          <p:nvPr/>
        </p:nvSpPr>
        <p:spPr>
          <a:xfrm>
            <a:off x="446040" y="1271520"/>
            <a:ext cx="83692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altenbeschreibung 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tartzeit des Proz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WCHAN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ame der Kernelfunktion, in der der Prozess war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erbrauchte CPU-Z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MD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aufendes Program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TAT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tatus des Proz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un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leeping (wartet z.B. auf Eingaben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Trapped / Traced (angehalt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W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 besitzt ausgelagerte Se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Z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ombie (abgebroch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792-CD4A-47A0-8116-F796501EF281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6" name=""/>
          <p:cNvSpPr/>
          <p:nvPr/>
        </p:nvSpPr>
        <p:spPr>
          <a:xfrm>
            <a:off x="3781440" y="4046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01760" y="1069920"/>
            <a:ext cx="860112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PID      TTY   STAT   TIME     C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25201    tty1    S    0:00     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27310    tty1    R    0:00     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USER    PID   %CPU  %MEM  VSZ   RSS   TTY  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root    520    0.0   0.2  5152  2024  tty1 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s889636 1424   0.0   0.1  3436  1556  tty1 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UID   PID   PPID  C  PRI  NI  SZ   WCHAN  TTY 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9636  520   1     0   75  0  5152  wait4  pts ..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9636  1424  809   0   78  0  3436    -    pts ..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8D9-62F1-40D6-9115-1CE4728A8BC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1" name=""/>
          <p:cNvSpPr/>
          <p:nvPr/>
        </p:nvSpPr>
        <p:spPr>
          <a:xfrm>
            <a:off x="3926880" y="404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g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-69840" y="4205160"/>
            <a:ext cx="912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zesse können durch Signale kontrolliert werden, indem s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er d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PID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angesprochen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gnale: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Abbruch der Terminalverbind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ftware-Ereig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letzung des Adressraums anderer Proze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324800" y="121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2430360" y="1492200"/>
            <a:ext cx="1871280" cy="1115640"/>
            <a:chOff x="2430360" y="1492200"/>
            <a:chExt cx="1871280" cy="1115640"/>
          </a:xfrm>
        </p:grpSpPr>
        <p:sp>
          <p:nvSpPr>
            <p:cNvPr id="1525" name=""/>
            <p:cNvSpPr/>
            <p:nvPr/>
          </p:nvSpPr>
          <p:spPr>
            <a:xfrm>
              <a:off x="2430360" y="1492200"/>
              <a:ext cx="1854360" cy="1091880"/>
            </a:xfrm>
            <a:custGeom>
              <a:avLst/>
              <a:gdLst/>
              <a:ahLst/>
              <a:rect l="l" t="t" r="r" b="b"/>
              <a:pathLst>
                <a:path w="983" h="771">
                  <a:moveTo>
                    <a:pt x="0" y="0"/>
                  </a:moveTo>
                  <a:lnTo>
                    <a:pt x="559" y="406"/>
                  </a:lnTo>
                  <a:lnTo>
                    <a:pt x="508" y="135"/>
                  </a:lnTo>
                  <a:lnTo>
                    <a:pt x="983" y="771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64560" y="1504800"/>
              <a:ext cx="1837080" cy="1103040"/>
            </a:xfrm>
            <a:custGeom>
              <a:avLst/>
              <a:gdLst/>
              <a:ahLst/>
              <a:rect l="l" t="t" r="r" b="b"/>
              <a:pathLst>
                <a:path w="974" h="779">
                  <a:moveTo>
                    <a:pt x="0" y="0"/>
                  </a:moveTo>
                  <a:lnTo>
                    <a:pt x="601" y="610"/>
                  </a:lnTo>
                  <a:lnTo>
                    <a:pt x="601" y="423"/>
                  </a:lnTo>
                  <a:lnTo>
                    <a:pt x="974" y="779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3673080" y="936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374800" y="23623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gnal-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4370400" y="1467000"/>
            <a:ext cx="766800" cy="2241360"/>
            <a:chOff x="4370400" y="1467000"/>
            <a:chExt cx="766800" cy="2241360"/>
          </a:xfrm>
        </p:grpSpPr>
        <p:sp>
          <p:nvSpPr>
            <p:cNvPr id="1530" name=""/>
            <p:cNvSpPr/>
            <p:nvPr/>
          </p:nvSpPr>
          <p:spPr>
            <a:xfrm>
              <a:off x="4370400" y="2781360"/>
              <a:ext cx="0" cy="927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4370400" y="1467000"/>
              <a:ext cx="0" cy="9554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132520" y="2114640"/>
              <a:ext cx="0" cy="9554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4383000" y="2125440"/>
              <a:ext cx="754200" cy="269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383000" y="2786040"/>
              <a:ext cx="754200" cy="270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84C-E759-4BC5-B748-F0A07BC25C9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1504800" y="1117440"/>
            <a:ext cx="59342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kill –Signal Prozess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il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endet ein Signal an den 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17160" y="3038400"/>
            <a:ext cx="8614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Signal Symbol     Bedeu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 HUP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enden der Terrminalverbind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  INT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gramminterrupt (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Strg&gt;c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  KILL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Unbedingtes Beenden des Proz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  TERM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enden des Program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  CONT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estoppter Prozess läuft im Hintergrund wei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9  STOP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 sto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0  TSTP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 vom Terminal aus stoppen (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Strg&gt;z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912840" y="404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g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8F1-0119-4A8B-8292-9F2A06F722B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"/>
          <p:cNvSpPr/>
          <p:nvPr/>
        </p:nvSpPr>
        <p:spPr>
          <a:xfrm>
            <a:off x="3912840" y="404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g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359000" y="1155600"/>
            <a:ext cx="6063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PID      TTY      TIME     C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626      tty0     0:00     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1623     tty0     0:00     b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2058     tty0     0:00     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kill -9 16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[1623] Getö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 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kill  -1    23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kill  -HUP  193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kill  -INT  32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BDA-E9B7-4AD0-8B42-4DC482F870D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31000" y="40464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wort än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015560" y="3213000"/>
            <a:ext cx="62157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(SuSE)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ass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Old Pass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New Pass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e-enter new Pass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hanging NIS Password for 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assword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passwd [Benutzernam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assw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ändert das Kennw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3D1-F980-4179-8E12-5D8EEFBF6A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6856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8.1: Proze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8.2: Sig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4DE-D5C6-48E9-BE64-C3C108DF12AB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"/>
          <p:cNvSpPr/>
          <p:nvPr/>
        </p:nvSpPr>
        <p:spPr>
          <a:xfrm>
            <a:off x="625320" y="1106640"/>
            <a:ext cx="803592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Multitas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n unterscheidet zwei Formen von Multitas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kooperatives Multitas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rozesse geben freiwillig ihre Rechenzeit a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z.B. Win3.1, Mac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preemptives (konkurrierendes) Multitaski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triebssystem (Scheduler) ist für die Einteilung 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chenzeit zu den einzelnen Prozessen verantwortli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eemption: einzelne Prozesse werden durch Schedu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äufiger bearbeit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0C3-CD8E-47CA-8C13-BBE5D481A827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6" name=""/>
          <p:cNvSpPr/>
          <p:nvPr/>
        </p:nvSpPr>
        <p:spPr>
          <a:xfrm>
            <a:off x="388440" y="93816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kooperatives Multitasking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14040" y="1577880"/>
            <a:ext cx="8355240" cy="3951000"/>
            <a:chOff x="14040" y="1577880"/>
            <a:chExt cx="8355240" cy="3951000"/>
          </a:xfrm>
        </p:grpSpPr>
        <p:sp>
          <p:nvSpPr>
            <p:cNvPr id="1558" name=""/>
            <p:cNvSpPr/>
            <p:nvPr/>
          </p:nvSpPr>
          <p:spPr>
            <a:xfrm>
              <a:off x="414360" y="3962520"/>
              <a:ext cx="565200" cy="84276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104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84240" y="3962520"/>
              <a:ext cx="566640" cy="84276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24092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50880" y="3962520"/>
              <a:ext cx="567000" cy="84276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80936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12840" y="3962520"/>
              <a:ext cx="567000" cy="84276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7132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678040" y="3962520"/>
              <a:ext cx="565200" cy="84276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3328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30080" y="5056200"/>
              <a:ext cx="16189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100" spc="-1" strike="noStrike">
                  <a:solidFill>
                    <a:srgbClr val="da0030"/>
                  </a:solidFill>
                  <a:latin typeface="Arial"/>
                </a:rPr>
                <a:t>   </a:t>
              </a:r>
              <a:r>
                <a:rPr b="1" lang="de-DE" sz="3100" spc="-1" strike="noStrike">
                  <a:solidFill>
                    <a:srgbClr val="333399"/>
                  </a:solidFill>
                  <a:latin typeface="Arial"/>
                </a:rPr>
                <a:t>Proz. 1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538960" y="3962520"/>
              <a:ext cx="566640" cy="84276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79528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110280" y="3962520"/>
              <a:ext cx="565200" cy="84276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6516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678720" y="3962520"/>
              <a:ext cx="565200" cy="84276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3360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238880" y="3962520"/>
              <a:ext cx="567000" cy="84276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49556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802640" y="3962520"/>
              <a:ext cx="566640" cy="84276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060760" y="426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905440" y="5056200"/>
              <a:ext cx="1728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1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3100" spc="-1" strike="noStrike">
                  <a:solidFill>
                    <a:srgbClr val="ff0000"/>
                  </a:solidFill>
                  <a:latin typeface="Arial"/>
                </a:rPr>
                <a:t>Proz. 2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04640" y="3660840"/>
              <a:ext cx="478080" cy="1440"/>
            </a:xfrm>
            <a:prstGeom prst="line">
              <a:avLst/>
            </a:prstGeom>
            <a:ln w="205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8480" y="3629160"/>
              <a:ext cx="125280" cy="6336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0" y="0"/>
                  </a:moveTo>
                  <a:lnTo>
                    <a:pt x="157" y="3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0030"/>
            </a:solidFill>
            <a:ln w="20520">
              <a:solidFill>
                <a:srgbClr val="da0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040" y="15778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da003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50480" y="18702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da003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19080" y="2901960"/>
              <a:ext cx="4554720" cy="703080"/>
            </a:xfrm>
            <a:custGeom>
              <a:avLst/>
              <a:gdLst/>
              <a:ahLst/>
              <a:rect l="l" t="t" r="r" b="b"/>
              <a:pathLst>
                <a:path w="5737" h="886">
                  <a:moveTo>
                    <a:pt x="5737" y="886"/>
                  </a:moveTo>
                  <a:lnTo>
                    <a:pt x="5414" y="680"/>
                  </a:lnTo>
                  <a:lnTo>
                    <a:pt x="5076" y="500"/>
                  </a:lnTo>
                  <a:lnTo>
                    <a:pt x="4725" y="349"/>
                  </a:lnTo>
                  <a:lnTo>
                    <a:pt x="4366" y="222"/>
                  </a:lnTo>
                  <a:lnTo>
                    <a:pt x="3999" y="127"/>
                  </a:lnTo>
                  <a:lnTo>
                    <a:pt x="3625" y="57"/>
                  </a:lnTo>
                  <a:lnTo>
                    <a:pt x="3249" y="14"/>
                  </a:lnTo>
                  <a:lnTo>
                    <a:pt x="2870" y="0"/>
                  </a:lnTo>
                  <a:lnTo>
                    <a:pt x="2683" y="2"/>
                  </a:lnTo>
                  <a:lnTo>
                    <a:pt x="2493" y="12"/>
                  </a:lnTo>
                  <a:lnTo>
                    <a:pt x="2115" y="54"/>
                  </a:lnTo>
                  <a:lnTo>
                    <a:pt x="1743" y="122"/>
                  </a:lnTo>
                  <a:lnTo>
                    <a:pt x="1375" y="221"/>
                  </a:lnTo>
                  <a:lnTo>
                    <a:pt x="1017" y="344"/>
                  </a:lnTo>
                  <a:lnTo>
                    <a:pt x="665" y="497"/>
                  </a:lnTo>
                  <a:lnTo>
                    <a:pt x="327" y="676"/>
                  </a:lnTo>
                  <a:lnTo>
                    <a:pt x="0" y="886"/>
                  </a:lnTo>
                </a:path>
              </a:pathLst>
            </a:custGeom>
            <a:noFill/>
            <a:ln w="20520">
              <a:solidFill>
                <a:srgbClr val="da0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384880" y="3533760"/>
              <a:ext cx="122040" cy="92160"/>
            </a:xfrm>
            <a:custGeom>
              <a:avLst/>
              <a:gdLst/>
              <a:ahLst/>
              <a:rect l="l" t="t" r="r" b="b"/>
              <a:pathLst>
                <a:path w="156" h="117">
                  <a:moveTo>
                    <a:pt x="43" y="0"/>
                  </a:moveTo>
                  <a:lnTo>
                    <a:pt x="156" y="117"/>
                  </a:lnTo>
                  <a:lnTo>
                    <a:pt x="0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a0030"/>
            </a:solidFill>
            <a:ln w="20520">
              <a:solidFill>
                <a:srgbClr val="da0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56240" y="3660840"/>
              <a:ext cx="477720" cy="1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50080" y="3629160"/>
              <a:ext cx="125280" cy="6336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0" y="0"/>
                  </a:moveTo>
                  <a:lnTo>
                    <a:pt x="157" y="3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0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971960" y="2309760"/>
              <a:ext cx="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072040" y="2602080"/>
              <a:ext cx="1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33560" y="2624040"/>
              <a:ext cx="5025960" cy="952560"/>
            </a:xfrm>
            <a:custGeom>
              <a:avLst/>
              <a:gdLst/>
              <a:ahLst/>
              <a:rect l="l" t="t" r="r" b="b"/>
              <a:pathLst>
                <a:path w="6332" h="1200">
                  <a:moveTo>
                    <a:pt x="6332" y="1200"/>
                  </a:moveTo>
                  <a:lnTo>
                    <a:pt x="5975" y="920"/>
                  </a:lnTo>
                  <a:lnTo>
                    <a:pt x="5601" y="676"/>
                  </a:lnTo>
                  <a:lnTo>
                    <a:pt x="5216" y="471"/>
                  </a:lnTo>
                  <a:lnTo>
                    <a:pt x="4817" y="301"/>
                  </a:lnTo>
                  <a:lnTo>
                    <a:pt x="4414" y="171"/>
                  </a:lnTo>
                  <a:lnTo>
                    <a:pt x="4002" y="76"/>
                  </a:lnTo>
                  <a:lnTo>
                    <a:pt x="3586" y="20"/>
                  </a:lnTo>
                  <a:lnTo>
                    <a:pt x="3166" y="0"/>
                  </a:lnTo>
                  <a:lnTo>
                    <a:pt x="2958" y="3"/>
                  </a:lnTo>
                  <a:lnTo>
                    <a:pt x="2750" y="17"/>
                  </a:lnTo>
                  <a:lnTo>
                    <a:pt x="2334" y="74"/>
                  </a:lnTo>
                  <a:lnTo>
                    <a:pt x="1923" y="167"/>
                  </a:lnTo>
                  <a:lnTo>
                    <a:pt x="1518" y="299"/>
                  </a:lnTo>
                  <a:lnTo>
                    <a:pt x="1122" y="467"/>
                  </a:lnTo>
                  <a:lnTo>
                    <a:pt x="734" y="674"/>
                  </a:lnTo>
                  <a:lnTo>
                    <a:pt x="360" y="917"/>
                  </a:lnTo>
                  <a:lnTo>
                    <a:pt x="0" y="1200"/>
                  </a:lnTo>
                </a:path>
              </a:pathLst>
            </a:custGeom>
            <a:noFill/>
            <a:ln w="20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01880" y="3500280"/>
              <a:ext cx="115560" cy="10188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146" y="63"/>
                  </a:moveTo>
                  <a:lnTo>
                    <a:pt x="0" y="128"/>
                  </a:lnTo>
                  <a:lnTo>
                    <a:pt x="98" y="0"/>
                  </a:lnTo>
                  <a:lnTo>
                    <a:pt x="146" y="63"/>
                  </a:lnTo>
                  <a:close/>
                </a:path>
              </a:pathLst>
            </a:custGeom>
            <a:solidFill>
              <a:srgbClr val="0000ff"/>
            </a:solidFill>
            <a:ln w="205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353880" y="181296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ozess 1 startet und gibt 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Rechenzeit an Prozess 2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945680" y="245412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Prozess 2 startet und gibt 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             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Rechenzeit an Prozess 1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921-3412-41C9-A328-F2006F8B7EF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8" name=""/>
          <p:cNvSpPr/>
          <p:nvPr/>
        </p:nvSpPr>
        <p:spPr>
          <a:xfrm>
            <a:off x="387720" y="93816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preemptives Multitasking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348120" y="1269000"/>
            <a:ext cx="8082720" cy="4972320"/>
            <a:chOff x="348120" y="1269000"/>
            <a:chExt cx="8082720" cy="4972320"/>
          </a:xfrm>
        </p:grpSpPr>
        <p:sp>
          <p:nvSpPr>
            <p:cNvPr id="1600" name=""/>
            <p:cNvSpPr/>
            <p:nvPr/>
          </p:nvSpPr>
          <p:spPr>
            <a:xfrm>
              <a:off x="357480" y="3311280"/>
              <a:ext cx="596160" cy="80928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4332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61200" y="3311280"/>
              <a:ext cx="596160" cy="80928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24776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61320" y="3311280"/>
              <a:ext cx="596160" cy="80928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84248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55680" y="3311280"/>
              <a:ext cx="598320" cy="809280"/>
            </a:xfrm>
            <a:prstGeom prst="rect">
              <a:avLst/>
            </a:prstGeom>
            <a:solidFill>
              <a:srgbClr val="00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4440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27280" y="4361040"/>
              <a:ext cx="1166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333399"/>
                  </a:solidFill>
                  <a:latin typeface="Arial"/>
                </a:rPr>
                <a:t>Proz.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48120" y="3021120"/>
              <a:ext cx="50364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63560" y="2992320"/>
              <a:ext cx="131760" cy="59400"/>
            </a:xfrm>
            <a:custGeom>
              <a:avLst/>
              <a:gdLst/>
              <a:ahLst/>
              <a:rect l="l" t="t" r="r" b="b"/>
              <a:pathLst>
                <a:path w="141" h="70">
                  <a:moveTo>
                    <a:pt x="0" y="0"/>
                  </a:moveTo>
                  <a:lnTo>
                    <a:pt x="141" y="34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0030"/>
            </a:soli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467000" y="126900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429560" y="1550520"/>
              <a:ext cx="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205640" y="183132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373040" y="2076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da003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05440" y="4884480"/>
              <a:ext cx="1864080" cy="1319040"/>
            </a:xfrm>
            <a:custGeom>
              <a:avLst/>
              <a:gdLst/>
              <a:ahLst/>
              <a:rect l="l" t="t" r="r" b="b"/>
              <a:pathLst>
                <a:path w="1982" h="1547">
                  <a:moveTo>
                    <a:pt x="0" y="0"/>
                  </a:moveTo>
                  <a:lnTo>
                    <a:pt x="163" y="282"/>
                  </a:lnTo>
                  <a:lnTo>
                    <a:pt x="356" y="543"/>
                  </a:lnTo>
                  <a:lnTo>
                    <a:pt x="574" y="780"/>
                  </a:lnTo>
                  <a:lnTo>
                    <a:pt x="817" y="993"/>
                  </a:lnTo>
                  <a:lnTo>
                    <a:pt x="1081" y="1176"/>
                  </a:lnTo>
                  <a:lnTo>
                    <a:pt x="1365" y="1332"/>
                  </a:lnTo>
                  <a:lnTo>
                    <a:pt x="1665" y="1455"/>
                  </a:lnTo>
                  <a:lnTo>
                    <a:pt x="1982" y="15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173400" y="6152760"/>
              <a:ext cx="137160" cy="61200"/>
            </a:xfrm>
            <a:custGeom>
              <a:avLst/>
              <a:gdLst/>
              <a:ahLst/>
              <a:rect l="l" t="t" r="r" b="b"/>
              <a:pathLst>
                <a:path w="146" h="72">
                  <a:moveTo>
                    <a:pt x="20" y="0"/>
                  </a:moveTo>
                  <a:lnTo>
                    <a:pt x="146" y="72"/>
                  </a:lnTo>
                  <a:lnTo>
                    <a:pt x="0" y="6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384200" y="4850280"/>
              <a:ext cx="93960" cy="11880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39" y="140"/>
                  </a:moveTo>
                  <a:lnTo>
                    <a:pt x="0" y="0"/>
                  </a:lnTo>
                  <a:lnTo>
                    <a:pt x="100" y="105"/>
                  </a:lnTo>
                  <a:lnTo>
                    <a:pt x="39" y="14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34320" y="3311280"/>
              <a:ext cx="596160" cy="809280"/>
            </a:xfrm>
            <a:prstGeom prst="rect">
              <a:avLst/>
            </a:prstGeom>
            <a:solidFill>
              <a:srgbClr val="00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1944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638400" y="3311280"/>
              <a:ext cx="597960" cy="809280"/>
            </a:xfrm>
            <a:prstGeom prst="rect">
              <a:avLst/>
            </a:prstGeom>
            <a:solidFill>
              <a:srgbClr val="00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92280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38160" y="3311280"/>
              <a:ext cx="598320" cy="809280"/>
            </a:xfrm>
            <a:prstGeom prst="rect">
              <a:avLst/>
            </a:prstGeom>
            <a:solidFill>
              <a:srgbClr val="00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52220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832880" y="3311280"/>
              <a:ext cx="597960" cy="809280"/>
            </a:xfrm>
            <a:prstGeom prst="rect">
              <a:avLst/>
            </a:prstGeom>
            <a:solidFill>
              <a:srgbClr val="00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11728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04480" y="4359600"/>
              <a:ext cx="1166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9900"/>
                  </a:solidFill>
                  <a:latin typeface="Arial"/>
                </a:rPr>
                <a:t>Proz.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051600" y="3021120"/>
              <a:ext cx="505800" cy="18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469200" y="2992320"/>
              <a:ext cx="131760" cy="59400"/>
            </a:xfrm>
            <a:custGeom>
              <a:avLst/>
              <a:gdLst/>
              <a:ahLst/>
              <a:rect l="l" t="t" r="r" b="b"/>
              <a:pathLst>
                <a:path w="140" h="70">
                  <a:moveTo>
                    <a:pt x="0" y="0"/>
                  </a:moveTo>
                  <a:lnTo>
                    <a:pt x="140" y="34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ad2c"/>
            </a:solidFill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8840" y="12690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28320" y="155052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01760" y="18313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726960" y="21110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424840" y="4858920"/>
              <a:ext cx="1816920" cy="1370160"/>
            </a:xfrm>
            <a:custGeom>
              <a:avLst/>
              <a:gdLst/>
              <a:ahLst/>
              <a:rect l="l" t="t" r="r" b="b"/>
              <a:pathLst>
                <a:path w="1931" h="1608">
                  <a:moveTo>
                    <a:pt x="0" y="1608"/>
                  </a:moveTo>
                  <a:lnTo>
                    <a:pt x="309" y="1508"/>
                  </a:lnTo>
                  <a:lnTo>
                    <a:pt x="605" y="1375"/>
                  </a:lnTo>
                  <a:lnTo>
                    <a:pt x="883" y="1211"/>
                  </a:lnTo>
                  <a:lnTo>
                    <a:pt x="1143" y="1019"/>
                  </a:lnTo>
                  <a:lnTo>
                    <a:pt x="1378" y="800"/>
                  </a:lnTo>
                  <a:lnTo>
                    <a:pt x="1590" y="556"/>
                  </a:lnTo>
                  <a:lnTo>
                    <a:pt x="1775" y="289"/>
                  </a:lnTo>
                  <a:lnTo>
                    <a:pt x="19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170840" y="4825080"/>
              <a:ext cx="91800" cy="118800"/>
            </a:xfrm>
            <a:custGeom>
              <a:avLst/>
              <a:gdLst/>
              <a:ahLst/>
              <a:rect l="l" t="t" r="r" b="b"/>
              <a:pathLst>
                <a:path w="97" h="140">
                  <a:moveTo>
                    <a:pt x="0" y="108"/>
                  </a:moveTo>
                  <a:lnTo>
                    <a:pt x="97" y="0"/>
                  </a:lnTo>
                  <a:lnTo>
                    <a:pt x="61" y="14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385600" y="6176880"/>
              <a:ext cx="135000" cy="6444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144" y="66"/>
                  </a:moveTo>
                  <a:lnTo>
                    <a:pt x="0" y="75"/>
                  </a:lnTo>
                  <a:lnTo>
                    <a:pt x="123" y="0"/>
                  </a:lnTo>
                  <a:lnTo>
                    <a:pt x="144" y="6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65840" y="3311280"/>
              <a:ext cx="598320" cy="80928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5240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769920" y="3311280"/>
              <a:ext cx="597960" cy="80928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05252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370040" y="3311280"/>
              <a:ext cx="599760" cy="80928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5444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965840" y="3311280"/>
              <a:ext cx="596160" cy="809280"/>
            </a:xfrm>
            <a:prstGeom prst="rect">
              <a:avLst/>
            </a:prstGeom>
            <a:solidFill>
              <a:srgbClr val="ffa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47000" y="3599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633120" y="4361040"/>
              <a:ext cx="1166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6600"/>
                  </a:solidFill>
                  <a:latin typeface="Arial"/>
                </a:rPr>
                <a:t>Proz.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84560" y="3021120"/>
              <a:ext cx="5040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600360" y="2992320"/>
              <a:ext cx="133200" cy="59400"/>
            </a:xfrm>
            <a:custGeom>
              <a:avLst/>
              <a:gdLst/>
              <a:ahLst/>
              <a:rect l="l" t="t" r="r" b="b"/>
              <a:pathLst>
                <a:path w="141" h="70">
                  <a:moveTo>
                    <a:pt x="0" y="0"/>
                  </a:moveTo>
                  <a:lnTo>
                    <a:pt x="141" y="34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86600" y="1274040"/>
              <a:ext cx="18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366080" y="15555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37360" y="183492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564720" y="211644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70040" y="4836600"/>
              <a:ext cx="1440" cy="48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338000" y="5237280"/>
              <a:ext cx="65520" cy="11880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71" y="0"/>
                  </a:moveTo>
                  <a:lnTo>
                    <a:pt x="36" y="141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38000" y="4797360"/>
              <a:ext cx="65520" cy="11916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0" y="141"/>
                  </a:moveTo>
                  <a:lnTo>
                    <a:pt x="36" y="0"/>
                  </a:lnTo>
                  <a:lnTo>
                    <a:pt x="71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264240" y="1574640"/>
            <a:ext cx="24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ozess 1 startet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wird nach Ablauf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Rechenzeit v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cheduler gesto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988720" y="157788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Danach startet Proze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und wird nach Ablauf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Rechenzeit vom Sched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ler gesto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938200" y="158112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Arial"/>
              </a:rPr>
              <a:t>Danach startet Proze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Arial"/>
              </a:rPr>
              <a:t>und wird nach Ablauf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Arial"/>
              </a:rPr>
              <a:t>Rechenzeit vom Sched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Arial"/>
              </a:rPr>
              <a:t>ler gesto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6372360" y="4206600"/>
            <a:ext cx="2437560" cy="1697040"/>
            <a:chOff x="6372360" y="4206600"/>
            <a:chExt cx="2437560" cy="1697040"/>
          </a:xfrm>
        </p:grpSpPr>
        <p:sp>
          <p:nvSpPr>
            <p:cNvPr id="1658" name=""/>
            <p:cNvSpPr/>
            <p:nvPr/>
          </p:nvSpPr>
          <p:spPr>
            <a:xfrm>
              <a:off x="7115760" y="5261040"/>
              <a:ext cx="169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weni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illiseku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372360" y="4219560"/>
              <a:ext cx="1434960" cy="11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flipV="1">
              <a:off x="7005240" y="4233600"/>
              <a:ext cx="801720" cy="11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7554600" y="4219200"/>
              <a:ext cx="25236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7807320" y="4206600"/>
              <a:ext cx="3668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0C6-A4DA-4B5F-8493-4473729A3D7B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7" name=""/>
          <p:cNvSpPr/>
          <p:nvPr/>
        </p:nvSpPr>
        <p:spPr>
          <a:xfrm>
            <a:off x="460800" y="1131840"/>
            <a:ext cx="811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em Prozess werden über einem Scheduling-Algorith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tscheiben zugewies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243760" y="2271600"/>
            <a:ext cx="27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dynamischer Ante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659840" y="3044880"/>
            <a:ext cx="210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enutzerante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660200" y="4146480"/>
            <a:ext cx="25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nur Administ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19840" y="2109960"/>
            <a:ext cx="238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Arial"/>
              </a:rPr>
              <a:t>weniger Prioritä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891360" y="4940280"/>
            <a:ext cx="201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9900"/>
                </a:solidFill>
                <a:latin typeface="Arial"/>
              </a:rPr>
              <a:t>mehr Prioritä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2330640" y="1901880"/>
            <a:ext cx="5851080" cy="3249360"/>
            <a:chOff x="2330640" y="1901880"/>
            <a:chExt cx="5851080" cy="3249360"/>
          </a:xfrm>
        </p:grpSpPr>
        <p:sp>
          <p:nvSpPr>
            <p:cNvPr id="1674" name=""/>
            <p:cNvSpPr/>
            <p:nvPr/>
          </p:nvSpPr>
          <p:spPr>
            <a:xfrm flipH="1">
              <a:off x="2940120" y="2813040"/>
              <a:ext cx="21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2941200" y="4757760"/>
              <a:ext cx="21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2330640" y="1901880"/>
              <a:ext cx="5851080" cy="3249360"/>
              <a:chOff x="2330640" y="1901880"/>
              <a:chExt cx="5851080" cy="3249360"/>
            </a:xfrm>
          </p:grpSpPr>
          <p:grpSp>
            <p:nvGrpSpPr>
              <p:cNvPr id="1677" name=""/>
              <p:cNvGrpSpPr/>
              <p:nvPr/>
            </p:nvGrpSpPr>
            <p:grpSpPr>
              <a:xfrm>
                <a:off x="3046320" y="1901880"/>
                <a:ext cx="5135400" cy="3249360"/>
                <a:chOff x="3046320" y="1901880"/>
                <a:chExt cx="5135400" cy="324936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3511440" y="2808360"/>
                  <a:ext cx="828720" cy="1955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046320" y="2421000"/>
                  <a:ext cx="0" cy="273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046320" y="3786120"/>
                  <a:ext cx="5135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327200" y="2209680"/>
                  <a:ext cx="828720" cy="603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V="1">
                  <a:off x="4706640" y="1901880"/>
                  <a:ext cx="0" cy="42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"/>
              <p:cNvSpPr/>
              <p:nvPr/>
            </p:nvSpPr>
            <p:spPr>
              <a:xfrm>
                <a:off x="2330640" y="2589120"/>
                <a:ext cx="654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Arial"/>
                  </a:rPr>
                  <a:t>+2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360880" y="4533840"/>
                <a:ext cx="584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660400" y="360504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6" name=""/>
          <p:cNvSpPr/>
          <p:nvPr/>
        </p:nvSpPr>
        <p:spPr>
          <a:xfrm>
            <a:off x="452880" y="5432400"/>
            <a:ext cx="833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ynamischer Antei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cheduler benutzt diesen Wert, um ein f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teilen der CPU-Zeit zu erreichen. Er wird einmal pro Sekunde f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aktiven Prozesse er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792-336F-48E2-8E84-BBD89AB8924C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1" name=""/>
          <p:cNvSpPr/>
          <p:nvPr/>
        </p:nvSpPr>
        <p:spPr>
          <a:xfrm>
            <a:off x="550800" y="1103400"/>
            <a:ext cx="800748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nice –n Wert Komm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nic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tartet ein Kommando mit niedrigerem nice-W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14880" y="2903400"/>
            <a:ext cx="843480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 Prozess erbt den Benutzeranteil vom Elternproz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ie Voreinstellung beträgt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ormaler Benutzer darf nice-Werte zwischen 0 und +19 v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end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r Administrator Werte zwischen -20 und +1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bfrage der Priorität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ps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Die vom Scheduler errechnete Priorität des Proz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NI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Der gültige nice-Wer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 markiert einen nice-Wert &gt;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&lt; markiert einen nice-Wert &lt;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07E-E561-4D8D-B0B6-AC31DD51729A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7" name=""/>
          <p:cNvSpPr/>
          <p:nvPr/>
        </p:nvSpPr>
        <p:spPr>
          <a:xfrm>
            <a:off x="996840" y="1211400"/>
            <a:ext cx="67190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 -name READ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 –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ID   PPID   PRI  NI  STAT 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1670   15   0    S    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urier New"/>
              <a:buAutoNum type="arabicPlain" startAt="17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 17   0    R   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urier New"/>
              <a:buAutoNum type="arabicPlain" startAt="17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 14   0    R   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nice –n 5 find / -name READ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ID   PPID   PRI  NI  STAT 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1670   15   0    S    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urier New"/>
              <a:buAutoNum type="arabicPlain" startAt="17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 19   5    RN  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723  1673   18   0    R   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681-EA98-4334-B18A-41AE270D85E4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2" name=""/>
          <p:cNvSpPr/>
          <p:nvPr/>
        </p:nvSpPr>
        <p:spPr>
          <a:xfrm>
            <a:off x="536400" y="1049400"/>
            <a:ext cx="8007480" cy="165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renice neuer_nice-Wert Prozess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nic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verändert den nice-Wert eines laufenden Pr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72600" y="3116160"/>
            <a:ext cx="8576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nutzer stehen Werte zwischen 0 und +19 zur Verfüg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nutzer können den nice-Wert nur erhö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nutzer können die Priorität nur herabse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ystemverwalter darf nice-Werte zwischen -20 und +19 se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482200" y="5235480"/>
            <a:ext cx="310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renice 15 47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4F9-BEC0-4015-BD97-5BFDA7FDEAA8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9" name=""/>
          <p:cNvSpPr/>
          <p:nvPr/>
        </p:nvSpPr>
        <p:spPr>
          <a:xfrm>
            <a:off x="996840" y="1211400"/>
            <a:ext cx="67190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 -name READ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 –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ID   PPID   PRI  NI  STAT 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1670   15   0    S    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urier New"/>
              <a:buAutoNum type="arabicPlain" startAt="17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 17   0    R   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urier New"/>
              <a:buAutoNum type="arabicPlain" startAt="17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 14   0    R   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renice 15 17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s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ID   PPID   PRI  NI  STAT 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1670   15   0    S    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urier New"/>
              <a:buAutoNum type="arabicPlain" startAt="17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673   19   15   RN  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723  1673   18   0    R   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294000" y="4046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zessprior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3AE-88D4-4215-A413-8DFB0636599C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4" name=""/>
          <p:cNvSpPr/>
          <p:nvPr/>
        </p:nvSpPr>
        <p:spPr>
          <a:xfrm>
            <a:off x="404280" y="1168560"/>
            <a:ext cx="833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ämonen stellen Systemdienste zur Verfügu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ie werden beim Hochfahren des Systems gestartet 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on Kommandos in Anspruch genom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181240" y="39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51280" y="5002200"/>
            <a:ext cx="88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td, cro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zeitgesteuerte Abarbeitung von Komman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d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Serverfunktion für Warteschlangenverwal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696800" y="3970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837320" y="3970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" descr=""/>
          <p:cNvPicPr/>
          <p:nvPr/>
        </p:nvPicPr>
        <p:blipFill>
          <a:blip r:embed="rId3"/>
          <a:stretch/>
        </p:blipFill>
        <p:spPr>
          <a:xfrm>
            <a:off x="754200" y="2751120"/>
            <a:ext cx="1434960" cy="1614600"/>
          </a:xfrm>
          <a:prstGeom prst="rect">
            <a:avLst/>
          </a:prstGeom>
          <a:ln w="0">
            <a:noFill/>
          </a:ln>
        </p:spPr>
      </p:pic>
      <p:pic>
        <p:nvPicPr>
          <p:cNvPr id="1720" name="" descr=""/>
          <p:cNvPicPr/>
          <p:nvPr/>
        </p:nvPicPr>
        <p:blipFill>
          <a:blip r:embed="rId4"/>
          <a:stretch/>
        </p:blipFill>
        <p:spPr>
          <a:xfrm>
            <a:off x="3444840" y="2751120"/>
            <a:ext cx="1434960" cy="1614600"/>
          </a:xfrm>
          <a:prstGeom prst="rect">
            <a:avLst/>
          </a:prstGeom>
          <a:ln w="0">
            <a:noFill/>
          </a:ln>
        </p:spPr>
      </p:pic>
      <p:pic>
        <p:nvPicPr>
          <p:cNvPr id="1721" name="" descr=""/>
          <p:cNvPicPr/>
          <p:nvPr/>
        </p:nvPicPr>
        <p:blipFill>
          <a:blip r:embed="rId5"/>
          <a:stretch/>
        </p:blipFill>
        <p:spPr>
          <a:xfrm>
            <a:off x="6254640" y="2751120"/>
            <a:ext cx="1435320" cy="1614600"/>
          </a:xfrm>
          <a:prstGeom prst="rect">
            <a:avLst/>
          </a:prstGeom>
          <a:ln w="0">
            <a:noFill/>
          </a:ln>
        </p:spPr>
      </p:pic>
      <p:sp>
        <p:nvSpPr>
          <p:cNvPr id="1722" name=""/>
          <p:cNvSpPr/>
          <p:nvPr/>
        </p:nvSpPr>
        <p:spPr>
          <a:xfrm>
            <a:off x="3750840" y="4046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äm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04F-1F05-4326-97C4-EC802994C562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29360" y="404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s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89880" y="3213000"/>
            <a:ext cx="85932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. .. bash.login bash_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/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 /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drwxr-xr-x 2 team1 staff 512 15 Mai 2001 te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drwxr-xr-x 2 team1 staff 512 15 Mai 2001 tea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drwxr-xr-x 2 team1 staff 512 15 Mai 2001 tea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1052640"/>
            <a:ext cx="828036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$Komm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$Kommando Argument1 Argumen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$Kommando -Option Argument1 Argumen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43E-F6D3-4FE4-8C6B-97D0B97591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496440" y="4452840"/>
            <a:ext cx="819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r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stellt Druckanforderung in die Warteschl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q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fragt Status der Warteschlange 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r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löscht Druckjob aus der Warteschl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c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gibt Anzahl der installierten Drucker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ehlende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pqueue]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: Standard-Drucker wird verwend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2861280" y="8920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r [-pqueue]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47760" y="1995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q [-pq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33440" y="3444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prm Job-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3043080" y="1882800"/>
            <a:ext cx="3292200" cy="2279520"/>
            <a:chOff x="3043080" y="1882800"/>
            <a:chExt cx="3292200" cy="2279520"/>
          </a:xfrm>
        </p:grpSpPr>
        <p:sp>
          <p:nvSpPr>
            <p:cNvPr id="1731" name=""/>
            <p:cNvSpPr/>
            <p:nvPr/>
          </p:nvSpPr>
          <p:spPr>
            <a:xfrm>
              <a:off x="3043080" y="1882800"/>
              <a:ext cx="3292200" cy="227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479400" y="2136600"/>
              <a:ext cx="2503440" cy="3794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481200" y="2809800"/>
              <a:ext cx="2503440" cy="3794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481200" y="3481560"/>
              <a:ext cx="2503440" cy="379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4687920" y="1319040"/>
            <a:ext cx="0" cy="80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166840" y="2219400"/>
            <a:ext cx="830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625840" y="3664080"/>
            <a:ext cx="830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16840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" descr=""/>
          <p:cNvPicPr/>
          <p:nvPr/>
        </p:nvPicPr>
        <p:blipFill>
          <a:blip r:embed="rId3"/>
          <a:stretch/>
        </p:blipFill>
        <p:spPr>
          <a:xfrm>
            <a:off x="6726240" y="1865160"/>
            <a:ext cx="1434960" cy="161460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750840" y="4046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äm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B26-B443-4642-972A-B657D0C090B4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4" name=""/>
          <p:cNvSpPr/>
          <p:nvPr/>
        </p:nvSpPr>
        <p:spPr>
          <a:xfrm>
            <a:off x="399240" y="1298520"/>
            <a:ext cx="745056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pson i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no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pr /etc/pass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ank     Owner     Job   Fil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active   s889636    1    /etc/pass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st      s02034l    2   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pr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816840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6" name="" descr=""/>
          <p:cNvPicPr/>
          <p:nvPr/>
        </p:nvPicPr>
        <p:blipFill>
          <a:blip r:embed="rId3"/>
          <a:stretch/>
        </p:blipFill>
        <p:spPr>
          <a:xfrm>
            <a:off x="6726240" y="1865160"/>
            <a:ext cx="1434960" cy="1614600"/>
          </a:xfrm>
          <a:prstGeom prst="rect">
            <a:avLst/>
          </a:prstGeom>
          <a:ln w="0">
            <a:noFill/>
          </a:ln>
        </p:spPr>
      </p:pic>
      <p:sp>
        <p:nvSpPr>
          <p:cNvPr id="1747" name=""/>
          <p:cNvSpPr/>
          <p:nvPr/>
        </p:nvSpPr>
        <p:spPr>
          <a:xfrm>
            <a:off x="3750840" y="4046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äm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270-78C0-499E-938F-CF7E5ABD377A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1" name=""/>
          <p:cNvSpPr/>
          <p:nvPr/>
        </p:nvSpPr>
        <p:spPr>
          <a:xfrm>
            <a:off x="637920" y="3538440"/>
            <a:ext cx="471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tq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listet die at-Jobs au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tr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löscht einen at-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905760" y="20732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at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Zeitan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t&gt;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944640" y="1076400"/>
            <a:ext cx="681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s at-Kommando startet einen Prozess zu ein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ngegebenen Zeitpun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4" name=""/>
          <p:cNvGraphicFramePr/>
          <p:nvPr/>
        </p:nvGraphicFramePr>
        <p:xfrm>
          <a:off x="5430960" y="2112840"/>
          <a:ext cx="104904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112840"/>
                    <a:ext cx="10490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"/>
          <p:cNvSpPr/>
          <p:nvPr/>
        </p:nvSpPr>
        <p:spPr>
          <a:xfrm>
            <a:off x="540720" y="4859280"/>
            <a:ext cx="81572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S kann die at-Anforderung nicht auf Stdout umlenke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lenkung: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gt; wal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broadcast-mail an alle us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gt; /dev/pts/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aktuelles Termi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816948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" descr=""/>
          <p:cNvPicPr/>
          <p:nvPr/>
        </p:nvPicPr>
        <p:blipFill>
          <a:blip r:embed="rId5"/>
          <a:stretch/>
        </p:blipFill>
        <p:spPr>
          <a:xfrm>
            <a:off x="6726240" y="1865160"/>
            <a:ext cx="1434960" cy="1614600"/>
          </a:xfrm>
          <a:prstGeom prst="rect">
            <a:avLst/>
          </a:prstGeom>
          <a:ln w="0">
            <a:noFill/>
          </a:ln>
        </p:spPr>
      </p:pic>
      <p:sp>
        <p:nvSpPr>
          <p:cNvPr id="1759" name=""/>
          <p:cNvSpPr/>
          <p:nvPr/>
        </p:nvSpPr>
        <p:spPr>
          <a:xfrm>
            <a:off x="3750840" y="4046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äm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624-9E3D-4340-877C-EB0FEF7A5933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"/>
          <p:cNvSpPr/>
          <p:nvPr/>
        </p:nvSpPr>
        <p:spPr>
          <a:xfrm>
            <a:off x="442440" y="1565280"/>
            <a:ext cx="70848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at now +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t&gt;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echo Hallo &gt; /dev/pts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at 18:00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t&gt;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echo Feierabend |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a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2   2003-04-27   18:00  a  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   2003-04-27   17:28  a  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29240" y="4094280"/>
            <a:ext cx="2474640" cy="841680"/>
            <a:chOff x="5529240" y="4094280"/>
            <a:chExt cx="2474640" cy="841680"/>
          </a:xfrm>
        </p:grpSpPr>
        <p:sp>
          <p:nvSpPr>
            <p:cNvPr id="1765" name=""/>
            <p:cNvSpPr/>
            <p:nvPr/>
          </p:nvSpPr>
          <p:spPr>
            <a:xfrm>
              <a:off x="5835960" y="4506840"/>
              <a:ext cx="216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broadcast-m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29240" y="4094280"/>
              <a:ext cx="40788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816948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8" name="" descr=""/>
          <p:cNvPicPr/>
          <p:nvPr/>
        </p:nvPicPr>
        <p:blipFill>
          <a:blip r:embed="rId3"/>
          <a:stretch/>
        </p:blipFill>
        <p:spPr>
          <a:xfrm>
            <a:off x="6726240" y="1865160"/>
            <a:ext cx="1434960" cy="161460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/>
          <p:nvPr/>
        </p:nvSpPr>
        <p:spPr>
          <a:xfrm>
            <a:off x="3750840" y="4046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äm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286-24C1-428B-BE57-38343B421050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3" name=""/>
          <p:cNvSpPr/>
          <p:nvPr/>
        </p:nvSpPr>
        <p:spPr>
          <a:xfrm>
            <a:off x="911880" y="2070000"/>
            <a:ext cx="3781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rstellen eines Masterfi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vi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Zeitangabe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902520" y="1076400"/>
            <a:ext cx="67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s crontab-Kommando startet einen Prozess z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em angegebenen Zeitpun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5" name=""/>
          <p:cNvGraphicFramePr/>
          <p:nvPr/>
        </p:nvGraphicFramePr>
        <p:xfrm>
          <a:off x="5430960" y="2112840"/>
          <a:ext cx="104904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112840"/>
                    <a:ext cx="10490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7" name=""/>
          <p:cNvSpPr/>
          <p:nvPr/>
        </p:nvSpPr>
        <p:spPr>
          <a:xfrm>
            <a:off x="1004760" y="4916520"/>
            <a:ext cx="4592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listet die crontab-Tabelle au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löscht die crontab-Tab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169480" y="3084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9" name="" descr=""/>
          <p:cNvPicPr/>
          <p:nvPr/>
        </p:nvPicPr>
        <p:blipFill>
          <a:blip r:embed="rId5"/>
          <a:stretch/>
        </p:blipFill>
        <p:spPr>
          <a:xfrm>
            <a:off x="6726240" y="1865160"/>
            <a:ext cx="1434960" cy="1614600"/>
          </a:xfrm>
          <a:prstGeom prst="rect">
            <a:avLst/>
          </a:prstGeom>
          <a:ln w="0">
            <a:noFill/>
          </a:ln>
        </p:spPr>
      </p:pic>
      <p:sp>
        <p:nvSpPr>
          <p:cNvPr id="1780" name=""/>
          <p:cNvSpPr/>
          <p:nvPr/>
        </p:nvSpPr>
        <p:spPr>
          <a:xfrm>
            <a:off x="906840" y="3757680"/>
            <a:ext cx="3472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aden des Masterfi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rontab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750840" y="4046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äm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403-10D2-4680-8658-A645BE035410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5" name=""/>
          <p:cNvSpPr/>
          <p:nvPr/>
        </p:nvSpPr>
        <p:spPr>
          <a:xfrm>
            <a:off x="3750840" y="40464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äm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36680" y="1017720"/>
            <a:ext cx="84373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fbau der Zeitangab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inute stunde tag   monat  wochentag  befe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0-59   0-23  1-31  1-12      0-6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vi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30 11 * * 1-5 /usr/bin/wall "Mittagpaus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vi date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0 9 1 1-12 * /usr/bin/mail chef &lt; b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rontab 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0 9 1 1-12 * /usr/bin/mail chef &lt; be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964840" y="2228760"/>
            <a:ext cx="177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0 = Sonnt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AA5-899B-4F53-B7E4-EF659FF00C0D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42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9.1: Prozesse und Prioritä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9.2: Zeitgesteuerte Abarbei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9.3: Druckaufträ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19A-9DE1-488F-ACC1-3D25A3D298CB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3" name=""/>
          <p:cNvSpPr/>
          <p:nvPr/>
        </p:nvSpPr>
        <p:spPr>
          <a:xfrm>
            <a:off x="907920" y="1049400"/>
            <a:ext cx="7402680" cy="336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X Window System (x11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nster- und 2D-Grafik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tzwerkfähig (Client-Server-Prinz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rtabel, kein Teil des Betriebs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tverbreite Desktopoberflä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einigt wesentliche Elemente der UNIX-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ndows-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31000" y="4830840"/>
            <a:ext cx="803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X-Window System (X-Window oder X11)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entwickelt am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ssachusetts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stitute of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chnology). Eine Implemen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tierung ist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XFree86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. Windowmanager wie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KD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oder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Gn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auen auf die Funktionalität von XFree86 4.1.0 au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038040" y="40464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 Window und K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4DD-0095-475B-A52B-7782741145C4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9" name=""/>
          <p:cNvSpPr/>
          <p:nvPr/>
        </p:nvSpPr>
        <p:spPr>
          <a:xfrm>
            <a:off x="817560" y="1117440"/>
            <a:ext cx="7513560" cy="167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star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tartx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tartet den X-Server und den eingestel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sktop-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45920" y="3240000"/>
            <a:ext cx="7963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n persönlichen Window-Manager kann man u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HOME/.xinitrc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einstel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.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kd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startet den K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gnome-sessio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startet den GN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ystemweite Einstellung bei S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trag in Datei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etc/rc.confi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EFAULT_WM="k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038040" y="40464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 Window und K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103-398F-4B37-9F48-1CF595902E4B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067280" y="1125360"/>
            <a:ext cx="1512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95280" y="2131920"/>
            <a:ext cx="302436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wöhnliche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Ordinary fi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227640" y="2133720"/>
            <a:ext cx="2592360" cy="86364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räte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Special Fi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227640" y="3394080"/>
            <a:ext cx="2592360" cy="47448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skettenlaufw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69840" y="3403440"/>
            <a:ext cx="1873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xt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69840" y="4243320"/>
            <a:ext cx="1873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hellskrip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69840" y="5083200"/>
            <a:ext cx="1873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inär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708360" y="2133720"/>
            <a:ext cx="2158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zeich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Directo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524720" y="299736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908000" y="2997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908000" y="3860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908000" y="4724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788000" y="1628640"/>
            <a:ext cx="73080" cy="505080"/>
          </a:xfrm>
          <a:prstGeom prst="downArrow">
            <a:avLst>
              <a:gd name="adj1" fmla="val 50000"/>
              <a:gd name="adj2" fmla="val 172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rot="18375600">
            <a:off x="5895000" y="14702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flipH="1" rot="3224400">
            <a:off x="3706920" y="1484280"/>
            <a:ext cx="73080" cy="792360"/>
          </a:xfrm>
          <a:prstGeom prst="downArrow">
            <a:avLst>
              <a:gd name="adj1" fmla="val 50000"/>
              <a:gd name="adj2" fmla="val 271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0" name=""/>
          <p:cNvGraphicFramePr/>
          <p:nvPr/>
        </p:nvGraphicFramePr>
        <p:xfrm>
          <a:off x="3780000" y="3645000"/>
          <a:ext cx="180000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645000"/>
                    <a:ext cx="1800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2" name=""/>
          <p:cNvSpPr/>
          <p:nvPr/>
        </p:nvSpPr>
        <p:spPr>
          <a:xfrm>
            <a:off x="6229440" y="4267080"/>
            <a:ext cx="2592360" cy="47484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ndlaufw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230880" y="5140440"/>
            <a:ext cx="2592360" cy="47448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230880" y="6012000"/>
            <a:ext cx="2592360" cy="47448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7526160" y="387036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526160" y="474192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7526160" y="561348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CBA-E213-4858-888A-B97EB6D02ED1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611280" y="1627200"/>
          <a:ext cx="7993080" cy="4754520"/>
        </p:xfrm>
        <a:graphic>
          <a:graphicData uri="http://schemas.openxmlformats.org/drawingml/2006/table">
            <a:tbl>
              <a:tblPr/>
              <a:tblGrid>
                <a:gridCol w="4070160"/>
                <a:gridCol w="392292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t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–l   /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–s /et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–l –d –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   -l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   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cat   fil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cat file1 fil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–   l /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–s /et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–l–d–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ls –l 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-a 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filea c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cat file1,fil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33399"/>
                          </a:solidFill>
                          <a:latin typeface="Courier New"/>
                          <a:ea typeface="Courier New"/>
                        </a:rPr>
                        <a:t>$ cat file1fil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20200" y="102708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e für die Kommandoz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360" y="404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ehls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959-7CAE-4837-9165-F5DFAC20F0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2" name=""/>
          <p:cNvSpPr/>
          <p:nvPr/>
        </p:nvSpPr>
        <p:spPr>
          <a:xfrm>
            <a:off x="529200" y="1486080"/>
            <a:ext cx="794232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r Benutzer hat die Möglichkeit, über Gerätedateien d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-/Ausgabegeräte anzusprechen. Die Gerätedateien s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im Verzeichnis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dev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(devices) eingetra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dev/rmt0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Bandlaufwerk (raw magnetic ta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dev/fd0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Diskettenlaufwerk (floppy dis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dev/lp0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Drucker (line pri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dev/pts/0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Virtuelles Fenster (pseudo termi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dev/tty1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ASCII-Terminal (teletype termi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(raw = byteweise aufzeichn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57E-16E8-4913-91A6-9550973A6088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7" name=""/>
          <p:cNvSpPr/>
          <p:nvPr/>
        </p:nvSpPr>
        <p:spPr>
          <a:xfrm>
            <a:off x="619200" y="1146240"/>
            <a:ext cx="7837560" cy="167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tar [-Optionen] Archiv Q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ta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tape archiver) sichert Dateien und Verzeich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kursiv ab einem Start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148840" y="3227400"/>
            <a:ext cx="43430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c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create (Archivdate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table of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v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verbose (ausführli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f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file (Name der Archivdate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Archiv erwei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x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extract (Archivdate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E17-C6FA-4006-AB37-C790A43BD77A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3" name=""/>
          <p:cNvSpPr/>
          <p:nvPr/>
        </p:nvSpPr>
        <p:spPr>
          <a:xfrm>
            <a:off x="221400" y="1469880"/>
            <a:ext cx="8776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ar –cf /dev/rmt0 .       tar –xf /dev/rm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ar –cf /dev/fd0 .       tar –xf /dev/f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ar –cf /tmp/tardat .       tar –xf /tmp/tar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4245120" y="4694400"/>
            <a:ext cx="1041120" cy="10839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rot="16200000">
            <a:off x="-519840" y="340272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99"/>
                </a:solidFill>
                <a:latin typeface="Arial"/>
              </a:rPr>
              <a:t>L i n u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957240" y="2989440"/>
            <a:ext cx="1954080" cy="266400"/>
          </a:xfrm>
          <a:prstGeom prst="rightArrow">
            <a:avLst>
              <a:gd name="adj1" fmla="val 50000"/>
              <a:gd name="adj2" fmla="val 18337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316560" y="2990880"/>
            <a:ext cx="1954440" cy="266760"/>
          </a:xfrm>
          <a:prstGeom prst="rightArrow">
            <a:avLst>
              <a:gd name="adj1" fmla="val 50000"/>
              <a:gd name="adj2" fmla="val 1831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rot="16200000">
            <a:off x="7572960" y="337896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99"/>
                </a:solidFill>
                <a:latin typeface="Arial"/>
              </a:rPr>
              <a:t>L i n u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9" name=""/>
          <p:cNvGraphicFramePr/>
          <p:nvPr/>
        </p:nvGraphicFramePr>
        <p:xfrm>
          <a:off x="4222800" y="1798560"/>
          <a:ext cx="111600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22800" y="1798560"/>
                    <a:ext cx="11160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1" name=""/>
          <p:cNvGraphicFramePr/>
          <p:nvPr/>
        </p:nvGraphicFramePr>
        <p:xfrm>
          <a:off x="4219560" y="3251160"/>
          <a:ext cx="1095480" cy="11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9560" y="3251160"/>
                    <a:ext cx="109548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3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9BE-75EB-43A2-9810-7A33E2D1E357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7" name=""/>
          <p:cNvSpPr/>
          <p:nvPr/>
        </p:nvSpPr>
        <p:spPr>
          <a:xfrm>
            <a:off x="2187720" y="185256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tar –cvf archiv1 /dev/rmt0/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tar –cvf archiv2 /dev/fd0/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tar –cvf archiv3 /tmp/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009800" y="4375080"/>
            <a:ext cx="1041120" cy="10843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9" name=""/>
          <p:cNvGraphicFramePr/>
          <p:nvPr/>
        </p:nvGraphicFramePr>
        <p:xfrm>
          <a:off x="971640" y="1569960"/>
          <a:ext cx="111600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569960"/>
                    <a:ext cx="11160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1" name=""/>
          <p:cNvGraphicFramePr/>
          <p:nvPr/>
        </p:nvGraphicFramePr>
        <p:xfrm>
          <a:off x="982800" y="2962440"/>
          <a:ext cx="1095120" cy="11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2800" y="2962440"/>
                    <a:ext cx="109512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3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60240" y="1031760"/>
            <a:ext cx="150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97600" y="5634000"/>
            <a:ext cx="673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flistung Inhalt einer erstellten Datensicheru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tar –tvf archi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FA9-9137-4667-9EEF-3535B3C72868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9" name=""/>
          <p:cNvSpPr/>
          <p:nvPr/>
        </p:nvSpPr>
        <p:spPr>
          <a:xfrm>
            <a:off x="4295160" y="1766880"/>
            <a:ext cx="456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tar –cf archiv1 q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tar –tf archi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quell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quelle/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quelle/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quelle/test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738000" y="10317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371520" y="1751040"/>
            <a:ext cx="3592440" cy="2805840"/>
            <a:chOff x="371520" y="1751040"/>
            <a:chExt cx="3592440" cy="2805840"/>
          </a:xfrm>
        </p:grpSpPr>
        <p:sp>
          <p:nvSpPr>
            <p:cNvPr id="1873" name=""/>
            <p:cNvSpPr/>
            <p:nvPr/>
          </p:nvSpPr>
          <p:spPr>
            <a:xfrm>
              <a:off x="1498680" y="1751040"/>
              <a:ext cx="1393560" cy="46512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s88963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71520" y="2695680"/>
              <a:ext cx="1393560" cy="46512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quel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570040" y="2700360"/>
              <a:ext cx="1393920" cy="46512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tem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02640" y="3457440"/>
              <a:ext cx="98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datei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text.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79280" y="2467080"/>
              <a:ext cx="22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2173320" y="22161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1082520" y="245592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3370320" y="24573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079280" y="3174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707760" y="5184720"/>
            <a:ext cx="713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gzip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: packt jede Datei im Verzeichnis einzeln als *.g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ta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: packt alle Dateien inklusive Pf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63C-66D8-46D4-B813-3B2FABEFC8CA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6" name=""/>
          <p:cNvSpPr/>
          <p:nvPr/>
        </p:nvSpPr>
        <p:spPr>
          <a:xfrm>
            <a:off x="221760" y="1055520"/>
            <a:ext cx="82274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ie Diskette als Datenträg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dir a:                   di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copy –t                  copy a: *.*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format a:                format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copy -t                  copy datei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rot="16200000">
            <a:off x="-519840" y="324540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99"/>
                </a:solidFill>
                <a:latin typeface="Arial"/>
              </a:rPr>
              <a:t>L i n u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rot="16200000">
            <a:off x="7809120" y="325584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99"/>
                </a:solidFill>
                <a:latin typeface="Arial"/>
              </a:rPr>
              <a:t>D O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H="1">
            <a:off x="960480" y="3848040"/>
            <a:ext cx="2403360" cy="266760"/>
          </a:xfrm>
          <a:prstGeom prst="rightArrow">
            <a:avLst>
              <a:gd name="adj1" fmla="val 50000"/>
              <a:gd name="adj2" fmla="val 22523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960480" y="2987640"/>
            <a:ext cx="2403360" cy="268200"/>
          </a:xfrm>
          <a:prstGeom prst="rightArrow">
            <a:avLst>
              <a:gd name="adj1" fmla="val 50000"/>
              <a:gd name="adj2" fmla="val 22402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5748480" y="3849840"/>
            <a:ext cx="2403360" cy="266400"/>
          </a:xfrm>
          <a:prstGeom prst="rightArrow">
            <a:avLst>
              <a:gd name="adj1" fmla="val 50000"/>
              <a:gd name="adj2" fmla="val 22554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48480" y="2989440"/>
            <a:ext cx="2403360" cy="268200"/>
          </a:xfrm>
          <a:prstGeom prst="rightArrow">
            <a:avLst>
              <a:gd name="adj1" fmla="val 50000"/>
              <a:gd name="adj2" fmla="val 22402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1805760" y="5562720"/>
            <a:ext cx="5301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onvertierung Linux - DO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copy –t linuxname a:dos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5" name=""/>
          <p:cNvGraphicFramePr/>
          <p:nvPr/>
        </p:nvGraphicFramePr>
        <p:xfrm>
          <a:off x="3500280" y="2476440"/>
          <a:ext cx="2102040" cy="21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2476440"/>
                    <a:ext cx="210204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5B3-11E3-4C9D-95B5-D0E1F1D7DF84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0" name=""/>
          <p:cNvSpPr/>
          <p:nvPr/>
        </p:nvSpPr>
        <p:spPr>
          <a:xfrm>
            <a:off x="2033640" y="1214280"/>
            <a:ext cx="66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ie Diskette als Datenträg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enn eine Diskette gemounted wurde, muss si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or Entnahme wieder unmounted werden. Linux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rkennt nicht, wenn eine Diskette ausgetausc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urde.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315960" y="40464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442800" y="1295280"/>
          <a:ext cx="126216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800" y="1295280"/>
                    <a:ext cx="126216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4" name=""/>
          <p:cNvSpPr/>
          <p:nvPr/>
        </p:nvSpPr>
        <p:spPr>
          <a:xfrm>
            <a:off x="613440" y="3479760"/>
            <a:ext cx="75340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CII-Dateien müssen für DOS/Win konvertiert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chied im letzten Zeichen einer Zei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OS/Win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\CR\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onvertieru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nixname a:dos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A88-1AF3-4ADE-828D-94696BC9E126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8" name=""/>
          <p:cNvSpPr/>
          <p:nvPr/>
        </p:nvSpPr>
        <p:spPr>
          <a:xfrm>
            <a:off x="4104360" y="4046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384800" y="2828880"/>
            <a:ext cx="369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Bourne (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Arial"/>
              </a:rPr>
              <a:t>sh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C (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Arial"/>
              </a:rPr>
              <a:t>csh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orn (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Arial"/>
              </a:rPr>
              <a:t>ksh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ecure (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Arial"/>
              </a:rPr>
              <a:t>ssh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Bourne-Again (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Arial"/>
              </a:rPr>
              <a:t>bash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0" name=""/>
          <p:cNvGraphicFramePr/>
          <p:nvPr/>
        </p:nvGraphicFramePr>
        <p:xfrm>
          <a:off x="1185840" y="1039680"/>
          <a:ext cx="2203560" cy="17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5840" y="1039680"/>
                    <a:ext cx="220356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"/>
          <p:cNvSpPr/>
          <p:nvPr/>
        </p:nvSpPr>
        <p:spPr>
          <a:xfrm>
            <a:off x="1457280" y="2975040"/>
            <a:ext cx="166068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324080" y="3693960"/>
            <a:ext cx="1928880" cy="52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198440" y="4413240"/>
            <a:ext cx="218124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042920" y="5133960"/>
            <a:ext cx="249084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522600" y="2778120"/>
            <a:ext cx="1019160" cy="2374920"/>
          </a:xfrm>
          <a:custGeom>
            <a:avLst/>
            <a:gdLst>
              <a:gd name="textAreaLeft" fmla="*/ 651240 w 1019160"/>
              <a:gd name="textAreaRight" fmla="*/ 1019520 w 101916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04E-99B0-45AD-9C1B-3DF69A0A8A8A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0" name=""/>
          <p:cNvSpPr/>
          <p:nvPr/>
        </p:nvSpPr>
        <p:spPr>
          <a:xfrm>
            <a:off x="374436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77360" y="1230480"/>
            <a:ext cx="8344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Bourne-Shell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IX-Standardshell. Von Steve Bourne in 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l Labs entwicke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C-Shell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n Berkley entwickelt. Syntax erinnert an C. Me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chanismen als die Bourne-Sh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Korn-Shell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Von David Korn in den AT&amp;T Bell Labs ent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ickelt. Erweiterungen der C-Shell. Kompat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r Bourne-Sh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ecure-Shell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Mit Public/Private Keys gesicherte Shell. Eig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 für Einsatz in ungesicherte Netzwer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Bourne-Again-Shell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Linux-Standardshell. Kompatibel z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ourne-She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372-5B22-4FD2-8275-B49C7B355A81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5" name=""/>
          <p:cNvSpPr/>
          <p:nvPr/>
        </p:nvSpPr>
        <p:spPr>
          <a:xfrm>
            <a:off x="619200" y="1146240"/>
            <a:ext cx="7851600" cy="224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\ (backslash)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  <a:ea typeface="Arial"/>
              </a:rPr>
              <a:t>und</a:t>
            </a: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&lt;Ente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anlaßt die Shell, eine Fortsetzungszeile zu öff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Fortsetzungszeile hat den Prompt "&gt;"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964520" y="3797280"/>
            <a:ext cx="4935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p /home/tmp/DM_EURO 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home/tmp/spruch   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home/team01/q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74436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66B-CCBA-4D88-B527-BF89495B196A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007280" y="3141720"/>
            <a:ext cx="49356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meinfile1 meinfil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2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/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home team01 team02 team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s [/Verzeichni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ist) zeigt den Inhalt von Verzeichnissen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5480" y="4046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s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B1B-4AC5-4862-9F8E-8CF91922C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1" name=""/>
          <p:cNvSpPr/>
          <p:nvPr/>
        </p:nvSpPr>
        <p:spPr>
          <a:xfrm>
            <a:off x="977760" y="1116000"/>
            <a:ext cx="7207560" cy="157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; (Semikol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ennt Kommandos innerhalb einer Befehlsz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965240" y="3168720"/>
            <a:ext cx="43869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Kommando1 ; Kommand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identisch 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Kommando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Kommand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74436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F0B-966B-4FCF-A76E-6009A269A514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7" name=""/>
          <p:cNvSpPr/>
          <p:nvPr/>
        </p:nvSpPr>
        <p:spPr>
          <a:xfrm>
            <a:off x="792000" y="1116000"/>
            <a:ext cx="7535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{ Kommandokette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aktische Zusammenfassung der Ausgabe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eren Kom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66440" y="3273480"/>
            <a:ext cx="62157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te &gt; datei1 ; ls –l &gt;&gt;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identisch 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{ date; ls –l; } &gt;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74436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4932000" y="3987720"/>
            <a:ext cx="4105800" cy="2291040"/>
            <a:chOff x="4932000" y="3987720"/>
            <a:chExt cx="4105800" cy="2291040"/>
          </a:xfrm>
        </p:grpSpPr>
        <p:grpSp>
          <p:nvGrpSpPr>
            <p:cNvPr id="1941" name=""/>
            <p:cNvGrpSpPr/>
            <p:nvPr/>
          </p:nvGrpSpPr>
          <p:grpSpPr>
            <a:xfrm>
              <a:off x="5830560" y="3987720"/>
              <a:ext cx="3207240" cy="875160"/>
              <a:chOff x="5830560" y="3987720"/>
              <a:chExt cx="3207240" cy="875160"/>
            </a:xfrm>
          </p:grpSpPr>
          <p:sp>
            <p:nvSpPr>
              <p:cNvPr id="1942" name=""/>
              <p:cNvSpPr/>
              <p:nvPr/>
            </p:nvSpPr>
            <p:spPr>
              <a:xfrm>
                <a:off x="5830560" y="4433760"/>
                <a:ext cx="3207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Arial"/>
                  </a:rPr>
                  <a:t>datei1 wird 2x geöffne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015240" y="3987720"/>
                <a:ext cx="1792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4932000" y="5403960"/>
              <a:ext cx="3207240" cy="874800"/>
              <a:chOff x="4932000" y="5403960"/>
              <a:chExt cx="3207240" cy="874800"/>
            </a:xfrm>
          </p:grpSpPr>
          <p:sp>
            <p:nvSpPr>
              <p:cNvPr id="1945" name=""/>
              <p:cNvSpPr/>
              <p:nvPr/>
            </p:nvSpPr>
            <p:spPr>
              <a:xfrm>
                <a:off x="4932000" y="5849640"/>
                <a:ext cx="3207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Arial"/>
                  </a:rPr>
                  <a:t>datei1 wird 1x geöffne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116680" y="5403960"/>
                <a:ext cx="17928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7" name=""/>
          <p:cNvGrpSpPr/>
          <p:nvPr/>
        </p:nvGrpSpPr>
        <p:grpSpPr>
          <a:xfrm>
            <a:off x="1484280" y="5365800"/>
            <a:ext cx="2382840" cy="967320"/>
            <a:chOff x="1484280" y="5365800"/>
            <a:chExt cx="2382840" cy="967320"/>
          </a:xfrm>
        </p:grpSpPr>
        <p:sp>
          <p:nvSpPr>
            <p:cNvPr id="1948" name=""/>
            <p:cNvSpPr/>
            <p:nvPr/>
          </p:nvSpPr>
          <p:spPr>
            <a:xfrm>
              <a:off x="1753920" y="5904000"/>
              <a:ext cx="1796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Leerzeich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84280" y="5365800"/>
              <a:ext cx="1065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2533680" y="5396040"/>
              <a:ext cx="133344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7F9-C416-4828-A3F4-EE2306882D16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4" name=""/>
          <p:cNvSpPr/>
          <p:nvPr/>
        </p:nvSpPr>
        <p:spPr>
          <a:xfrm>
            <a:off x="565200" y="1116000"/>
            <a:ext cx="79534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( Kommandokette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führung einer Kommandokette in einer sepa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te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767160" y="3273480"/>
            <a:ext cx="54842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wd ; ( cd/tmp ;pwd ) ; 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74436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490680" y="467532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ach Ausführung ist das aktuelle Verzeichnis noch dassel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jede Shell besitzt eine eigene Arbeitsumgeb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fehle, die eine Umgebung nicht verändern sollen, läßt 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in einer subshell ausfü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BDF-F68A-4AB4-A1AF-2F5E9B677578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1" name=""/>
          <p:cNvSpPr/>
          <p:nvPr/>
        </p:nvSpPr>
        <p:spPr>
          <a:xfrm>
            <a:off x="765360" y="1355760"/>
            <a:ext cx="76788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wd ; cd/tmp ; pwd ; pwd </a:t>
            </a:r>
            <a:r>
              <a:rPr b="1" lang="de-DE" sz="2400" spc="-1" strike="noStrike">
                <a:solidFill>
                  <a:srgbClr val="333399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/s88963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wd ; ( cd/tmp ;pwd ) ; pwd </a:t>
            </a:r>
            <a:r>
              <a:rPr b="1" lang="de-DE" sz="2400" spc="-1" strike="noStrike">
                <a:solidFill>
                  <a:srgbClr val="333399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/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74436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9F5-47D7-4A55-B20D-7E02D47364EA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6" name=""/>
          <p:cNvSpPr/>
          <p:nvPr/>
        </p:nvSpPr>
        <p:spPr>
          <a:xfrm>
            <a:off x="704880" y="3273480"/>
            <a:ext cx="76957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lias bleibt nur solange am Leben, wie die Shell beste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flisten definierter Aliase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öschen definierter Aliase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na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663000" y="40464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i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84120" y="1116000"/>
            <a:ext cx="8313840" cy="152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alias aliasname="Befehlskett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lia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definiert Abkürzung (Pseudonym) für Befehlsk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3DD-2E55-4B23-B727-1F6C4CE91C2D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2" name=""/>
          <p:cNvSpPr/>
          <p:nvPr/>
        </p:nvSpPr>
        <p:spPr>
          <a:xfrm>
            <a:off x="666720" y="1128600"/>
            <a:ext cx="76788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alias dir="ls –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rwxr-xr-x 1 s889636 users 312 Feb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alias ux="chmod ugo-x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ux dat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rw-r--r-- 1 s889636 users 312 Feb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a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ir=ls –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ux="chmod u+x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663000" y="40464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i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787-CE54-4380-8BFC-BA9B77822BDA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633600" y="3618000"/>
            <a:ext cx="7893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frufparameter werden innerhalb der Funktion mit $1 b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$9 angesproc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flisten definierter Funktionen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set -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öschen definierter Funktionen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nset –f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268080" y="40464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598320" y="1116000"/>
            <a:ext cx="7923240" cy="209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tion name {Befehlskette ;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fasst Befehlsketten unter einem Namen zu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ammen. Die Übergabe von Parametern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 die Variablen $1 bis $9 mög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566-D434-4EAB-815D-567D46E56BA7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3" name=""/>
          <p:cNvSpPr/>
          <p:nvPr/>
        </p:nvSpPr>
        <p:spPr>
          <a:xfrm>
            <a:off x="293040" y="1233360"/>
            <a:ext cx="9141840" cy="32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unction wo {find $1 –name $2 –ls 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wo /usr/doc/packages READ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/kde/kbase/kvt/READ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$ function bak {cp $1 $1.bak ; tar –rf archiv $1.bak ; 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bak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268080" y="40464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DD5-502D-427F-9259-5415000B5201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8" name=""/>
          <p:cNvSpPr/>
          <p:nvPr/>
        </p:nvSpPr>
        <p:spPr>
          <a:xfrm>
            <a:off x="370440" y="3029040"/>
            <a:ext cx="87012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ie Befehlsverarbeitung der Bourne-Again-Shell wird d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Optionen beeinflusst. Die Optionen können nur ein- (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o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) bz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geschaltet (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o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)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ie wichtigsten 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emac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emacs zum Editieren der Befehlszeile benu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monito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Hintergrundprozesse laufen in separater Prozeßgrup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noclobbe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kein Überschreiben von Dateien mit dem &gt; Sym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vi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vi zum Editieren der Befehlszeile benu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72708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098720" y="1116000"/>
            <a:ext cx="6887880" cy="148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set -o [Op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e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fragt ab bzw. setzt Optionen für die 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293-0A1A-407B-9F39-F3F911C9C1CB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4" name=""/>
          <p:cNvSpPr/>
          <p:nvPr/>
        </p:nvSpPr>
        <p:spPr>
          <a:xfrm>
            <a:off x="878040" y="993600"/>
            <a:ext cx="749592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set –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set +o noclo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set 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ie aktuellen Optionseinstellungen s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allexport 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monitor  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macs    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e gesetzte Option wird wieder ausgeschaltet 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set +o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72708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ACF-C047-4CDB-94D5-A5CB1806F738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539640" y="1052640"/>
            <a:ext cx="8136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s [-Optionen] [Verzeichnis/Date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ist) listet den Inhalt von Verzeichnissen auf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igt Informationen über Dateien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47280" y="4046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s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1880" y="3038400"/>
            <a:ext cx="7390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l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führliche Informa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i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teinum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t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ortierung nach letztem Änderungsda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ehrt gewählte Sortierreihenfolge 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a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istet auch versteckte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istet rekursiv mit allen Unterverzeichn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d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nzeige des Verzeichnisses selbst (ohne Inh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BB0-7E22-48D0-B0CE-C297F0B3F4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9" name=""/>
          <p:cNvSpPr/>
          <p:nvPr/>
        </p:nvSpPr>
        <p:spPr>
          <a:xfrm>
            <a:off x="621360" y="1176480"/>
            <a:ext cx="8251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$ set -o monito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monito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In der bash kann man Prozesse anhalten und weiterlau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assen. Prozesse können zwischen Vorder- und Hintergrund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führung verschoben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z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nhalten des Vordergrundproze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g [ PID ]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 in Vordergrund hol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bg [ PID ]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 im Hintergrund laufen la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jobs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tatusanzeige der gestoppten oder 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Hintergrund laufenden Prozes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kill –signal PID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m Prozess ein signal send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72708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BD7-9D47-4F4D-B3CF-9F3842BC5184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4" name=""/>
          <p:cNvSpPr/>
          <p:nvPr/>
        </p:nvSpPr>
        <p:spPr>
          <a:xfrm>
            <a:off x="619920" y="1176480"/>
            <a:ext cx="81468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de-DE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$ set -o emac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r emacs ist als Befehlszeileneditor in der bash eingeba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n Cursor in der Datei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.bash_history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beweg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leep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s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s –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kill –HUB 2011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enice 5 2009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s –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jobs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72708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1606680" y="3536640"/>
            <a:ext cx="4944600" cy="2198880"/>
            <a:chOff x="1606680" y="3536640"/>
            <a:chExt cx="4944600" cy="2198880"/>
          </a:xfrm>
        </p:grpSpPr>
        <p:sp>
          <p:nvSpPr>
            <p:cNvPr id="2007" name=""/>
            <p:cNvSpPr/>
            <p:nvPr/>
          </p:nvSpPr>
          <p:spPr>
            <a:xfrm>
              <a:off x="1619280" y="4448160"/>
              <a:ext cx="49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606680" y="4821120"/>
              <a:ext cx="49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4332240" y="3536640"/>
              <a:ext cx="0" cy="82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319640" y="4910040"/>
              <a:ext cx="0" cy="82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558320" y="37162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&lt;Strg&gt; 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60120" y="50752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&lt;Strg&gt;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EDA-6E32-4895-96C6-358F3977F2A2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6" name=""/>
          <p:cNvSpPr/>
          <p:nvPr/>
        </p:nvSpPr>
        <p:spPr>
          <a:xfrm>
            <a:off x="1342440" y="1054080"/>
            <a:ext cx="6670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macs-Komman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p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etztes Kommando zurück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n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ächstes Kommando zurück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a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ursor an Zeilenanfang ste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e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ursor an das Zeilenende ste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b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ursor ein Zeichen zurü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f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Cursor ein Zeichen v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 b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 Wort zurü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sc&gt; f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 wort vorwä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u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eile lö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TAB&gt;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fadnamen vervollständi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72708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69E-0607-42CE-9AE4-0E8F3B13C4B6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1" name=""/>
          <p:cNvSpPr/>
          <p:nvPr/>
        </p:nvSpPr>
        <p:spPr>
          <a:xfrm>
            <a:off x="1094400" y="1382760"/>
            <a:ext cx="707076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.p &lt;TAB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.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enn der Pfad (bzw. Datei) bekannt ist, wird ergänz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o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und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2x&lt;TAB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istet alle Befehle auf, die mit mo beg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x&lt;TAB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istet alle 2153 Befehle au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727080" y="404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48D-C27A-41E6-82E9-76084418BE29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32800" y="1125360"/>
            <a:ext cx="8222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führliche Info auch über versteckte Verzeich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ie oben, zusätzliche Anzeige der Dateinum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nzeige aller Dateinamen, absteigend alphabetisch sorti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ekursives Auflisten auch der Inhalte der Unterverzeich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führliche Info über das Verzeichnis selb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führliche Info über sichtbare Dateien, absteigend n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m letzten Änderungsdatum sorti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47280" y="4046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s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CE4-6411-4478-ACD5-B3BAEED09A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3452760"/>
            <a:ext cx="8376840" cy="764280"/>
            <a:chOff x="395280" y="3452760"/>
            <a:chExt cx="8376840" cy="764280"/>
          </a:xfrm>
        </p:grpSpPr>
        <p:sp>
          <p:nvSpPr>
            <p:cNvPr id="64" name=""/>
            <p:cNvSpPr/>
            <p:nvPr/>
          </p:nvSpPr>
          <p:spPr>
            <a:xfrm>
              <a:off x="395280" y="3544920"/>
              <a:ext cx="1297080" cy="5763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3040" y="3452760"/>
              <a:ext cx="694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Finnische Informatikstudent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Linus Torwalds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impl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mentiert auf Basis von MINIX den Kernel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Linux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95280" y="2303640"/>
            <a:ext cx="8154720" cy="764280"/>
            <a:chOff x="395280" y="2303640"/>
            <a:chExt cx="8154720" cy="764280"/>
          </a:xfrm>
        </p:grpSpPr>
        <p:sp>
          <p:nvSpPr>
            <p:cNvPr id="67" name=""/>
            <p:cNvSpPr/>
            <p:nvPr/>
          </p:nvSpPr>
          <p:spPr>
            <a:xfrm>
              <a:off x="395280" y="2395800"/>
              <a:ext cx="1297080" cy="5760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37080" y="2303640"/>
              <a:ext cx="671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A. Tanenbaum (FU Amsterdam) entwickelt </a:t>
              </a: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MINIX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Im universitären Bereich etabliert sich MINIX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95280" y="4602240"/>
            <a:ext cx="3092400" cy="576000"/>
            <a:chOff x="395280" y="4602240"/>
            <a:chExt cx="3092400" cy="576000"/>
          </a:xfrm>
        </p:grpSpPr>
        <p:sp>
          <p:nvSpPr>
            <p:cNvPr id="70" name=""/>
            <p:cNvSpPr/>
            <p:nvPr/>
          </p:nvSpPr>
          <p:spPr>
            <a:xfrm>
              <a:off x="395280" y="4602240"/>
              <a:ext cx="1297080" cy="5760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31680" y="462924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Linux V 1.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5280" y="5567400"/>
            <a:ext cx="3092400" cy="576360"/>
            <a:chOff x="395280" y="5567400"/>
            <a:chExt cx="3092400" cy="576360"/>
          </a:xfrm>
        </p:grpSpPr>
        <p:sp>
          <p:nvSpPr>
            <p:cNvPr id="73" name=""/>
            <p:cNvSpPr/>
            <p:nvPr/>
          </p:nvSpPr>
          <p:spPr>
            <a:xfrm>
              <a:off x="395280" y="5567400"/>
              <a:ext cx="1297080" cy="5763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31680" y="559440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Linux V 2.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85200" y="1227240"/>
            <a:ext cx="73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en 80er und 90er Jahren entstehen UNIX-Deriva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IX, HP-UX, SINIX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, us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83920" y="40464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chicht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2B7-EF4E-47A8-A49E-F9F419249D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030320" y="2997360"/>
            <a:ext cx="5850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 (concatenate)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s ist der Inhalt von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2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file1 fil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s ist der Inhalt von fil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s ist der Inhalt von fil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cat Datei1 [Datei2] [Dateix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ca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verknüpft Dateien oder zeigt dies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54040" y="4046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BF2-0FC2-4F57-AAE0-D502DC64E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30560" y="40464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abe- und Fehlerum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74120" y="1557360"/>
            <a:ext cx="82288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eder Prozess besitzt 3 Kanäle über die er mit der Aussenw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munizieren kan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tandardeingabekana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stdi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fault: Tast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tandardausgabekana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stdou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fault: Bildschi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tandardfehlerkana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stderr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fault: Bildschi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se lassen sich gegebenenfalls umlenk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66520" y="23256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F52-27F4-4576-9B5A-4399119DC2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538200" y="1589040"/>
          <a:ext cx="8281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589040"/>
                    <a:ext cx="8281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30560" y="40464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abe- und Fehlerum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94D-CA8C-4CB0-BC30-94DFAD83D1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30560" y="40464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abe- und Fehlerum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895680" y="2924280"/>
            <a:ext cx="365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 &gt; datei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Kommando &gt; Date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nkt die Ausgabe in eine Datei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5240" y="3716280"/>
            <a:ext cx="754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"&gt;" überschreibt den Inhalt der Datei, falls diese bere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istier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99280" y="4710240"/>
            <a:ext cx="32896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2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&gt; datei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ine neue Ze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Strg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82120" y="5157720"/>
            <a:ext cx="314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xt wird in die 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.out geschrieb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62A-22CE-4F0C-9D88-19E08A3B33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16160" y="40464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abe- und Fehlerum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186200" y="3213000"/>
            <a:ext cx="365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date &gt;&gt; datei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Kommando &gt;&gt; Date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&gt;&gt;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hängt die Ausgabe an eine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76320" y="4292640"/>
            <a:ext cx="72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"&gt;&gt;" hängt die Ausgabe des Befehls date an die 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.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102-646C-4C69-8F9D-3DA45F0D77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16160" y="40464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abe- und Fehlerum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1106640" y="3213000"/>
            <a:ext cx="5484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gibtsnicht 2&gt; datei.e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Kommando 2&gt; Date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2&gt;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leitet die Fehlerausgabe in eine Datei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76680" y="4292640"/>
            <a:ext cx="713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Fehlermeldung des cat-Befehls werden nicht au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n Bildschirm geschrieben, sondern in die Date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.err umgeleit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75C-54CE-425B-BB3B-B8BA0FDE6C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893880" y="2997360"/>
            <a:ext cx="548424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ess /etc/rc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NGUAGE="germa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MOUSE="/dev/psaux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etc/rc.config line 35/842 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ess Date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es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zeigt den Inhalt von Dateien seitenweis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6640" y="5516640"/>
            <a:ext cx="798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ach der Ausgabe der ersten Seite wartet less auf die Ein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abe von Unterbefeh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1840" y="40464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s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40D-6D95-46D9-BDB6-5C7340A09A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551160" y="1413000"/>
            <a:ext cx="83160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befehle des less-Kommandos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nter&gt;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e Zeile vorwärts blätter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Leertaste&gt;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e Seite vorwärts blätter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f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e Seite vorwärts blättern (forwar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b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e Seite rückwärts blättern (backwar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suchmuste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ie Zeile des Suchmusters springe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q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ss verlassen (qu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z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ss verlassen (qu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ternativ können auch die Pfeiltasten zur Navigation benutz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1840" y="40464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ss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123-D6DD-4C73-BDE5-391BDEC799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73080" y="3068640"/>
            <a:ext cx="237528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an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NAM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YNOPSI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ines 1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man T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a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manual) zeigt Handbucheinträg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5920" y="5445000"/>
            <a:ext cx="811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n verwendet das less-Programm. Daher können d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kommandos des less-Kommandos verwendet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84200" y="40464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28B-5104-4F1D-B27C-1AC7C65216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894600" y="3213000"/>
            <a:ext cx="49356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l 2000 |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Ja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o  Mo  Di  Mi  Do  Fr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   2   3   4   5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71640" y="1052640"/>
            <a:ext cx="7345440" cy="19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Pipesymbol: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Ausgabe des vorgehenden Kommandos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Eingabe des nächsten Kom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0440" y="5546880"/>
            <a:ext cx="78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usgabe des cal-Befehles kann mit less seitenwe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 dem Standardausgabekanal stdio angesehen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49720" y="4046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D99-40EC-46B3-B130-8D2E57242B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75760" y="1557360"/>
            <a:ext cx="3719880" cy="1674720"/>
            <a:chOff x="275760" y="1557360"/>
            <a:chExt cx="3719880" cy="1674720"/>
          </a:xfrm>
        </p:grpSpPr>
        <p:sp>
          <p:nvSpPr>
            <p:cNvPr id="81" name=""/>
            <p:cNvSpPr/>
            <p:nvPr/>
          </p:nvSpPr>
          <p:spPr>
            <a:xfrm>
              <a:off x="1692360" y="2224080"/>
              <a:ext cx="230328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GNU-Pro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5760" y="1557360"/>
              <a:ext cx="332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Anwenderprogram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221440" y="1557360"/>
            <a:ext cx="3672000" cy="1674720"/>
            <a:chOff x="5221440" y="1557360"/>
            <a:chExt cx="3672000" cy="1674720"/>
          </a:xfrm>
        </p:grpSpPr>
        <p:sp>
          <p:nvSpPr>
            <p:cNvPr id="84" name=""/>
            <p:cNvSpPr/>
            <p:nvPr/>
          </p:nvSpPr>
          <p:spPr>
            <a:xfrm>
              <a:off x="5221440" y="2224080"/>
              <a:ext cx="230328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Linux-Pro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0320" y="1557360"/>
              <a:ext cx="30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Betriebssystemke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348000" y="3160800"/>
            <a:ext cx="2448000" cy="2016000"/>
            <a:chOff x="3348000" y="3160800"/>
            <a:chExt cx="2448000" cy="2016000"/>
          </a:xfrm>
        </p:grpSpPr>
        <p:sp>
          <p:nvSpPr>
            <p:cNvPr id="87" name=""/>
            <p:cNvSpPr/>
            <p:nvPr/>
          </p:nvSpPr>
          <p:spPr>
            <a:xfrm>
              <a:off x="3421080" y="4168800"/>
              <a:ext cx="230328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GNU/Lin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3160800"/>
              <a:ext cx="719280" cy="936360"/>
            </a:xfrm>
            <a:prstGeom prst="line">
              <a:avLst/>
            </a:prstGeom>
            <a:ln w="8892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076720" y="3160800"/>
              <a:ext cx="719280" cy="936360"/>
            </a:xfrm>
            <a:prstGeom prst="line">
              <a:avLst/>
            </a:prstGeom>
            <a:ln w="8892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4120" y="5229360"/>
            <a:ext cx="399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GNU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: GNU not UN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GP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: General Public Lic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OS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: Open Source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83920" y="40464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chicht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FB4-09E4-4AB7-929B-3227022F73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wc [–Option] 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c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word count) zählt Zeilen, Wörter und 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37240" y="3429000"/>
            <a:ext cx="5203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igt nur die Anzahl der Zeich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igt nur die Anzahl der Zeil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igt nur die Anzahl der Wö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93280" y="40464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c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BAC-67B0-4C3B-9CB2-36882943F6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695520" y="1197000"/>
            <a:ext cx="8289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wc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4 18 142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2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wc –w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8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3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| wc –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s listet den Inhalt den Inhalt des Verzeichnisses au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c zählt die empfangenen Zeilen und schreibt das Ergeb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 den Bildschi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93280" y="40464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c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CA1-8A79-4463-A07E-A228886862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1.1: Lo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1.2: Komman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1.3: Ausgabeumlenkung und Pi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FF2-2A18-44C3-88AA-F76A05500E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22720" y="4046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ho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who [am 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ho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zeigt die zur Zeit angemeldeten Benu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94960" y="3578400"/>
            <a:ext cx="54842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oot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tty1   Feb 04   10: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889636 tty2   Feb 04   10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11520" y="5224320"/>
            <a:ext cx="54842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who a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889636 tty2   Feb 04   11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685160" y="2919240"/>
            <a:ext cx="5342400" cy="1517760"/>
            <a:chOff x="1685160" y="2919240"/>
            <a:chExt cx="5342400" cy="1517760"/>
          </a:xfrm>
        </p:grpSpPr>
        <p:sp>
          <p:nvSpPr>
            <p:cNvPr id="390" name=""/>
            <p:cNvSpPr/>
            <p:nvPr/>
          </p:nvSpPr>
          <p:spPr>
            <a:xfrm>
              <a:off x="1685160" y="2919240"/>
              <a:ext cx="534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meldename  Datenstations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um  Uhrze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765440" y="3284640"/>
              <a:ext cx="792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205440" y="3284640"/>
              <a:ext cx="792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860720" y="364500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69080" y="364500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A3E-1685-410F-A7A6-12BD4A0675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64320" y="40464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ger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611280" y="1052640"/>
            <a:ext cx="799308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inger [Username / Username@Rechne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fing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gibt Benutzerinformation 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2960" y="3284640"/>
            <a:ext cx="8398440" cy="280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nn das Kommando finger und der Benutzername eing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ben wird, werden die Informationen vom Benutzer genan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ch wenn er noch nicht angemeldet 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m Arbeiten im Netzwerk trennt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den Benutzernamen v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chnerna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Ändern der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GCO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Einträge (General Comprehensive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informationen) geschieht durch den Systemverwal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 über das Kommando durch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asswd –f use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666-5596-4CB4-AF3C-C6D3B5D024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78360" y="40464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ger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318600" y="1305000"/>
            <a:ext cx="85932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(BA)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ger 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ogin: s889636   Name: Anton.Fl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irectory: /student/s889636   Shell: /bin/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On since Fri Apr on pts/14 from 277c00.ba-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No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No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878-B861-4AE1-AA5C-7C6B411DDD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3800" y="40464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rite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write Benutzername [tt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rit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endet Nachrichten an andere Benu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7920" y="4508640"/>
            <a:ext cx="82576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Partner muss angemeldet sein (1 zu 1 Kommunik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esg 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verbietet die Online-Kommunik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esg y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erlaubt die Online-Kommunik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40680" y="3284640"/>
            <a:ext cx="2923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write s0296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408-0D5D-4784-BF99-C3063869D7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33800" y="40464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rite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757080" y="1268280"/>
            <a:ext cx="3238560" cy="2232000"/>
            <a:chOff x="757080" y="1268280"/>
            <a:chExt cx="3238560" cy="2232000"/>
          </a:xfrm>
        </p:grpSpPr>
        <p:sp>
          <p:nvSpPr>
            <p:cNvPr id="418" name=""/>
            <p:cNvSpPr/>
            <p:nvPr/>
          </p:nvSpPr>
          <p:spPr>
            <a:xfrm>
              <a:off x="757080" y="1268280"/>
              <a:ext cx="3238560" cy="158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$ write s0296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extzeil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extzeil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&lt;Strg&gt;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7080" y="2852640"/>
              <a:ext cx="3238560" cy="647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rminal von team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57080" y="3860640"/>
            <a:ext cx="3238560" cy="2232000"/>
            <a:chOff x="757080" y="3860640"/>
            <a:chExt cx="3238560" cy="2232000"/>
          </a:xfrm>
        </p:grpSpPr>
        <p:sp>
          <p:nvSpPr>
            <p:cNvPr id="421" name=""/>
            <p:cNvSpPr/>
            <p:nvPr/>
          </p:nvSpPr>
          <p:spPr>
            <a:xfrm>
              <a:off x="757080" y="3860640"/>
              <a:ext cx="3238560" cy="158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Message s8896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extzeil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extzeil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&lt;EOF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7080" y="5445000"/>
              <a:ext cx="3238560" cy="647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rminal von team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3" name=""/>
          <p:cNvGraphicFramePr/>
          <p:nvPr/>
        </p:nvGraphicFramePr>
        <p:xfrm>
          <a:off x="5600880" y="1052640"/>
          <a:ext cx="2211120" cy="25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0880" y="1052640"/>
                    <a:ext cx="22111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600880" y="3645000"/>
          <a:ext cx="2211120" cy="25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3645000"/>
                    <a:ext cx="22111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3995640" y="126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95640" y="2133360"/>
            <a:ext cx="216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95640" y="386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995640" y="472428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B21-62B1-4F18-B806-57E8533E4F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15520" y="4046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lk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talk Benutzername[@Rechner] [tt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talk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endet Nachrichten an andere Benut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41040" y="3284640"/>
            <a:ext cx="2741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talk s0296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63720" y="4581360"/>
            <a:ext cx="4821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endigung der Talk-Verbind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15E-D8FA-480D-931F-3DCB200C17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29560" y="4046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lk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33360" y="981000"/>
            <a:ext cx="128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lauf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79640" y="981000"/>
            <a:ext cx="4871880" cy="540000"/>
          </a:xfrm>
          <a:prstGeom prst="rect">
            <a:avLst/>
          </a:prstGeom>
          <a:solidFill>
            <a:srgbClr val="efed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gabe team01: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alk team01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44720" y="1484280"/>
            <a:ext cx="7056360" cy="878040"/>
            <a:chOff x="1044720" y="1484280"/>
            <a:chExt cx="7056360" cy="878040"/>
          </a:xfrm>
        </p:grpSpPr>
        <p:sp>
          <p:nvSpPr>
            <p:cNvPr id="445" name=""/>
            <p:cNvSpPr/>
            <p:nvPr/>
          </p:nvSpPr>
          <p:spPr>
            <a:xfrm>
              <a:off x="1044720" y="1859040"/>
              <a:ext cx="7056360" cy="503280"/>
            </a:xfrm>
            <a:prstGeom prst="rect">
              <a:avLst/>
            </a:prstGeom>
            <a:solidFill>
              <a:srgbClr val="efed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talk prüft, ob team01 zu team02 schreiben dar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27640" y="1484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39640" y="2347920"/>
            <a:ext cx="8064720" cy="1216080"/>
            <a:chOff x="539640" y="2347920"/>
            <a:chExt cx="8064720" cy="1216080"/>
          </a:xfrm>
        </p:grpSpPr>
        <p:sp>
          <p:nvSpPr>
            <p:cNvPr id="448" name=""/>
            <p:cNvSpPr/>
            <p:nvPr/>
          </p:nvSpPr>
          <p:spPr>
            <a:xfrm>
              <a:off x="539640" y="2700360"/>
              <a:ext cx="8064720" cy="863640"/>
            </a:xfrm>
            <a:prstGeom prst="rect">
              <a:avLst/>
            </a:prstGeom>
            <a:solidFill>
              <a:srgbClr val="efed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team02: </a:t>
              </a: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talk: Connection requested by team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             </a:t>
              </a: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Respond with: talk team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27640" y="234792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017720" y="3573360"/>
            <a:ext cx="7040160" cy="835200"/>
            <a:chOff x="1017720" y="3573360"/>
            <a:chExt cx="7040160" cy="835200"/>
          </a:xfrm>
        </p:grpSpPr>
        <p:sp>
          <p:nvSpPr>
            <p:cNvPr id="451" name=""/>
            <p:cNvSpPr/>
            <p:nvPr/>
          </p:nvSpPr>
          <p:spPr>
            <a:xfrm>
              <a:off x="1017720" y="3903840"/>
              <a:ext cx="7040160" cy="504720"/>
            </a:xfrm>
            <a:prstGeom prst="rect">
              <a:avLst/>
            </a:prstGeom>
            <a:solidFill>
              <a:srgbClr val="efed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team01: </a:t>
              </a: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[Warten auf Antwort von team02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90200" y="3573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124000" y="4365720"/>
            <a:ext cx="4895640" cy="884160"/>
            <a:chOff x="2124000" y="4365720"/>
            <a:chExt cx="4895640" cy="884160"/>
          </a:xfrm>
        </p:grpSpPr>
        <p:sp>
          <p:nvSpPr>
            <p:cNvPr id="454" name=""/>
            <p:cNvSpPr/>
            <p:nvPr/>
          </p:nvSpPr>
          <p:spPr>
            <a:xfrm>
              <a:off x="2124000" y="4746600"/>
              <a:ext cx="4895640" cy="503280"/>
            </a:xfrm>
            <a:prstGeom prst="rect">
              <a:avLst/>
            </a:prstGeom>
            <a:solidFill>
              <a:srgbClr val="efed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Eingabe team02: </a:t>
              </a: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alk team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22960" y="436572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934920" y="5229360"/>
            <a:ext cx="7274160" cy="1152360"/>
            <a:chOff x="934920" y="5229360"/>
            <a:chExt cx="7274160" cy="1152360"/>
          </a:xfrm>
        </p:grpSpPr>
        <p:sp>
          <p:nvSpPr>
            <p:cNvPr id="457" name=""/>
            <p:cNvSpPr/>
            <p:nvPr/>
          </p:nvSpPr>
          <p:spPr>
            <a:xfrm>
              <a:off x="934920" y="5589720"/>
              <a:ext cx="7274160" cy="792000"/>
            </a:xfrm>
            <a:prstGeom prst="rect">
              <a:avLst/>
            </a:prstGeom>
            <a:solidFill>
              <a:srgbClr val="efed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am01, team02: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[Verbindung eingerichtet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dschirme sind für Lesen und Schreiben getei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7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7A0-4D22-4AC2-A31A-800CDEF594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20680" y="4046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348000" y="1916280"/>
            <a:ext cx="2664000" cy="2952720"/>
            <a:chOff x="3348000" y="1916280"/>
            <a:chExt cx="2664000" cy="2952720"/>
          </a:xfrm>
        </p:grpSpPr>
        <p:sp>
          <p:nvSpPr>
            <p:cNvPr id="97" name="Puzzle3"/>
            <p:cNvSpPr/>
            <p:nvPr/>
          </p:nvSpPr>
          <p:spPr>
            <a:xfrm>
              <a:off x="4645080" y="1916280"/>
              <a:ext cx="1047600" cy="156816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uzzle2"/>
            <p:cNvSpPr/>
            <p:nvPr/>
          </p:nvSpPr>
          <p:spPr>
            <a:xfrm>
              <a:off x="4340160" y="3059280"/>
              <a:ext cx="1671840" cy="14284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uzzle4"/>
            <p:cNvSpPr/>
            <p:nvPr/>
          </p:nvSpPr>
          <p:spPr>
            <a:xfrm>
              <a:off x="3693960" y="3041640"/>
              <a:ext cx="1008360" cy="182736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uzzle1"/>
            <p:cNvSpPr/>
            <p:nvPr/>
          </p:nvSpPr>
          <p:spPr>
            <a:xfrm>
              <a:off x="3348000" y="2390760"/>
              <a:ext cx="1692360" cy="10890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41840" y="2870280"/>
            <a:ext cx="187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5440" y="1197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560" y="18446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elt im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5080" y="306864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geleitet von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720" y="4149720"/>
            <a:ext cx="31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ed &amp; Ow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6880" y="20606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ere Anbi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8880" y="306864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nda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sie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8160" y="450864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ringe 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7240" y="530064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benutzer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9800" y="5300640"/>
            <a:ext cx="29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abl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A08-3686-4CE9-AF7A-6A3355DA1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3960" y="4046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lk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468360" y="1268280"/>
            <a:ext cx="4857840" cy="23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talk s029696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[Warten auf Antwor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[Verbindung eingerichte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Hallo wie geht es 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3860640"/>
            <a:ext cx="4857840" cy="23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talk:connect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talk:respond with team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alk s8896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[Verbindung eingerichte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Hallo wie geht es 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464160" y="1052640"/>
          <a:ext cx="2211480" cy="25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4160" y="1052640"/>
                    <a:ext cx="221148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464160" y="3645000"/>
          <a:ext cx="2211480" cy="25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4160" y="3645000"/>
                    <a:ext cx="221148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4859280" y="1268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292720" y="2133360"/>
            <a:ext cx="1727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386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5292720" y="4724280"/>
            <a:ext cx="172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313-1E6A-4584-8E27-C5E39C0FAA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89240" y="40464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il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mail Benutzername[@Rechne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ai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endet sendet und empfängt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78480" y="3335400"/>
            <a:ext cx="63327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Empfänger muss nicht angemeldet sei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munikation von 1 zu n Benutzer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senden und Empfangen von Nachrich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esg 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verbietet Anfra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3BD-9459-418F-A183-21C73BCB008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89240" y="40464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il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464160" y="1125360"/>
          <a:ext cx="221148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4160" y="1125360"/>
                    <a:ext cx="22114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" name=""/>
          <p:cNvGrpSpPr/>
          <p:nvPr/>
        </p:nvGrpSpPr>
        <p:grpSpPr>
          <a:xfrm>
            <a:off x="468360" y="1343160"/>
            <a:ext cx="4967280" cy="3960720"/>
            <a:chOff x="468360" y="1343160"/>
            <a:chExt cx="4967280" cy="3960720"/>
          </a:xfrm>
        </p:grpSpPr>
        <p:sp>
          <p:nvSpPr>
            <p:cNvPr id="486" name=""/>
            <p:cNvSpPr/>
            <p:nvPr/>
          </p:nvSpPr>
          <p:spPr>
            <a:xfrm>
              <a:off x="468360" y="1343160"/>
              <a:ext cx="4967280" cy="331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$</a:t>
              </a: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mail s029696 s0306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Subject: </a:t>
              </a: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Ausflu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Liebe Kollegen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morgen ist Betriebsausflu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&lt;Strg&gt;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" y="4656240"/>
              <a:ext cx="4967280" cy="647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rminal von team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859280" y="1343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35640" y="2206440"/>
            <a:ext cx="151272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6C2-E9F5-47C9-9290-EFCC72A8C96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175200" y="40464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il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468360" y="1484280"/>
            <a:ext cx="2808360" cy="201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mail s0296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u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trg&gt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8360" y="1052640"/>
            <a:ext cx="280836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utzer team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8360" y="4365720"/>
            <a:ext cx="3598920" cy="19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[you have new mai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 N 1 team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3860640"/>
            <a:ext cx="3598920" cy="50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utzer team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5003640" y="1197000"/>
          <a:ext cx="3552840" cy="2127240"/>
        </p:xfrm>
        <a:graphic>
          <a:graphicData uri="http://schemas.openxmlformats.org/drawingml/2006/table">
            <a:tbl>
              <a:tblPr/>
              <a:tblGrid>
                <a:gridCol w="1776600"/>
                <a:gridCol w="17762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Mailb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a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9a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9a5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5076720" y="4005360"/>
          <a:ext cx="2305080" cy="224784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Mailb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9a5d9"/>
                    </a:solidFill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1979640" y="2781360"/>
            <a:ext cx="5040360" cy="1044360"/>
          </a:xfrm>
          <a:custGeom>
            <a:avLst/>
            <a:gdLst/>
            <a:ahLst/>
            <a:rect l="l" t="t" r="r" b="b"/>
            <a:pathLst>
              <a:path w="3175" h="658">
                <a:moveTo>
                  <a:pt x="0" y="0"/>
                </a:moveTo>
                <a:cubicBezTo>
                  <a:pt x="529" y="306"/>
                  <a:pt x="1059" y="612"/>
                  <a:pt x="1588" y="635"/>
                </a:cubicBezTo>
                <a:cubicBezTo>
                  <a:pt x="2117" y="658"/>
                  <a:pt x="2910" y="219"/>
                  <a:pt x="3175" y="1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72360" y="3068640"/>
            <a:ext cx="936360" cy="865080"/>
          </a:xfrm>
          <a:custGeom>
            <a:avLst/>
            <a:gdLst/>
            <a:ahLst/>
            <a:rect l="l" t="t" r="r" b="b"/>
            <a:pathLst>
              <a:path w="363" h="545">
                <a:moveTo>
                  <a:pt x="363" y="0"/>
                </a:moveTo>
                <a:cubicBezTo>
                  <a:pt x="257" y="68"/>
                  <a:pt x="151" y="136"/>
                  <a:pt x="91" y="227"/>
                </a:cubicBezTo>
                <a:cubicBezTo>
                  <a:pt x="31" y="318"/>
                  <a:pt x="15" y="431"/>
                  <a:pt x="0" y="54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659640" y="3619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ail -f m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53800" y="402444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0120" y="7398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/var/spool/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A3E-3A3C-4307-965B-631ADAA0942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89240" y="40464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il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393480" y="981000"/>
            <a:ext cx="846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Nach Eingabe des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mai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-Befehles geht das Programm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n mailbox-mode. Nach dem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&amp;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-prompt können mailbox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nterbefehle eingegeben we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type) nächste Nachricht l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 n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n-te Nachricht l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reply) Antworten auf Nach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 datei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save) aktuelle Nachricht speich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f mbox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file) personal mailbox anz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h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headers) vorhandene Nachrichtenliste anz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d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delete) aktuelle Nachricht lö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d n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n-te Nachricht lö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x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exit) mailbox ohne Veränderung ver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q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(quit) mailbox verlassen, Nachrichten sich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?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Hilfe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2AE-74E0-4FA6-91B9-3FA17BCFB74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03640" y="40464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il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681960" y="2492280"/>
          <a:ext cx="22111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2492280"/>
                    <a:ext cx="22111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468360" y="1125360"/>
            <a:ext cx="4967280" cy="522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Mail version 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/var/mail/s889636" 1 me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gt;N 1 s889636@cruncher.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"Ausflug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amp;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rom: s889636@cruncher.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To: s029696@cruncher.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ubject: Ausf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iebe Kol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&amp;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aved 1 message in m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651640" y="1557360"/>
            <a:ext cx="3313080" cy="64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von team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5640" y="1125360"/>
            <a:ext cx="180036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435640" y="3573360"/>
            <a:ext cx="172872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738-7D20-42FA-BCE3-8DA7C9515E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43520" y="40464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gabeum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894240" y="2924280"/>
            <a:ext cx="5118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write s029696 &lt; datei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1640" y="1052640"/>
            <a:ext cx="7345440" cy="16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Kommando &lt; Date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nkt die Eingabe aus einer Datei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05760" y="373680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nden einer Nachricht an team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85240" y="4781520"/>
            <a:ext cx="4935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2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ail s029696 &lt; datei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7920" y="5594400"/>
            <a:ext cx="768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schicken einer Datei mit mail und Eingabeumlenk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86B-5410-46CA-8579-0B025FDF29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2.1: Informationen über Benut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2.2: 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2.3: wr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2.4: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84B-3163-4F7F-A33C-210162D63C7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99280" y="404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8360" y="1052640"/>
            <a:ext cx="813600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Eine Datei ist eine Folge von Bytes.\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Linux gibt keine interne Struktur\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vor; diese muss z.B. durch eine\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Anwendung erzeugt werden.\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\0\0\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0520" y="387036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\n = Zeilenende (</a:t>
            </a: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newline&gt;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9160" y="4660920"/>
            <a:ext cx="816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e Datei ist eine Zusammenstellung von Da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Textdatei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ASCII) können vom Benutzer gelesen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Binärdatei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Objektcode, Programme) enthalten binä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, die nur vom Rechner ausgewertet werden kö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A78-77F1-4F7B-AB9B-E795F531D8F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62560" y="4046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93720" y="1455840"/>
            <a:ext cx="7247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ufgaben des Dateisyst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Speichern und Wiederauffin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von Informa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Hierarchisch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Grupp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Schutz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gegen nicht autorisierte Zugrif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Einheitlicher Zugriff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auf alle Dateiarten bei jeder E/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4800" y="3678120"/>
            <a:ext cx="8179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Drei Arten von Datei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Ordinary Fil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gewöhnliche Dateien): Text,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Directory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zeichnis): Sammlung von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Special Fil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Gerätedatei): Ein-/Ausgabegeräte (devices) 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zeichnis \de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6084720" y="5156280"/>
          <a:ext cx="180036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5156280"/>
                    <a:ext cx="18003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71A-1638-4CE5-96F7-21F179A944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2280" y="404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bi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48000" y="1916280"/>
            <a:ext cx="2664000" cy="2952720"/>
            <a:chOff x="3348000" y="1916280"/>
            <a:chExt cx="2664000" cy="2952720"/>
          </a:xfrm>
        </p:grpSpPr>
        <p:sp>
          <p:nvSpPr>
            <p:cNvPr id="116" name="Puzzle3"/>
            <p:cNvSpPr/>
            <p:nvPr/>
          </p:nvSpPr>
          <p:spPr>
            <a:xfrm>
              <a:off x="4645080" y="1916280"/>
              <a:ext cx="1047600" cy="156816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uzzle2"/>
            <p:cNvSpPr/>
            <p:nvPr/>
          </p:nvSpPr>
          <p:spPr>
            <a:xfrm>
              <a:off x="4340160" y="3059280"/>
              <a:ext cx="1671840" cy="14284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uzzle4"/>
            <p:cNvSpPr/>
            <p:nvPr/>
          </p:nvSpPr>
          <p:spPr>
            <a:xfrm>
              <a:off x="3693960" y="3041640"/>
              <a:ext cx="1008360" cy="182736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Puzzle1"/>
            <p:cNvSpPr/>
            <p:nvPr/>
          </p:nvSpPr>
          <p:spPr>
            <a:xfrm>
              <a:off x="3348000" y="2390760"/>
              <a:ext cx="1692360" cy="10890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02560" y="2924280"/>
            <a:ext cx="293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Distribu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9800" y="5157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Arial"/>
              </a:rPr>
              <a:t>Knopp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5240" y="36450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Cal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760" y="1125360"/>
            <a:ext cx="321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Distribu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nux Kernel V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+ Installationsprogra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+ Handbü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+ Arbeits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12000" y="1341360"/>
            <a:ext cx="2376360" cy="2068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619280" y="2925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292720" y="5373720"/>
            <a:ext cx="3720960" cy="56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635280" y="4941720"/>
            <a:ext cx="1532160" cy="1532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419640" y="1125360"/>
            <a:ext cx="2266920" cy="600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443640" y="4365720"/>
            <a:ext cx="185724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D9A-A002-4ADE-9F9C-FC67D44ADC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73360" y="4046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067280" y="1125360"/>
            <a:ext cx="1512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5280" y="2131920"/>
            <a:ext cx="302436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wöhnliche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Ordinary fi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27640" y="2133720"/>
            <a:ext cx="2592360" cy="86364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räte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Special Fi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227640" y="3465360"/>
            <a:ext cx="2592360" cy="107964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lockorientie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/A-Ger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z.B. Festplat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27640" y="5013360"/>
            <a:ext cx="2592360" cy="1079640"/>
          </a:xfrm>
          <a:prstGeom prst="rect">
            <a:avLst/>
          </a:prstGeom>
          <a:solidFill>
            <a:srgbClr val="c6ec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chenorientie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/A-Ger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z.B. Termi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69840" y="3403440"/>
            <a:ext cx="1873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xt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69840" y="4243320"/>
            <a:ext cx="1873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hellskrip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69840" y="5083200"/>
            <a:ext cx="1873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inär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08360" y="2133720"/>
            <a:ext cx="2158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zeich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Directo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524720" y="299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524720" y="4508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8000" y="2997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860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8000" y="4724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88000" y="1628640"/>
            <a:ext cx="73080" cy="505080"/>
          </a:xfrm>
          <a:prstGeom prst="downArrow">
            <a:avLst>
              <a:gd name="adj1" fmla="val 50000"/>
              <a:gd name="adj2" fmla="val 172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8375600">
            <a:off x="5895000" y="14702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rot="3224400">
            <a:off x="3706920" y="1484280"/>
            <a:ext cx="73080" cy="792360"/>
          </a:xfrm>
          <a:prstGeom prst="downArrow">
            <a:avLst>
              <a:gd name="adj1" fmla="val 50000"/>
              <a:gd name="adj2" fmla="val 271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780000" y="3645000"/>
          <a:ext cx="180000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645000"/>
                    <a:ext cx="1800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9A7-A2ED-439D-ACA1-CBCB1B531EA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56080" y="4046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395280" y="1020600"/>
            <a:ext cx="8424720" cy="53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E72-9AD6-4CEF-93DC-068BF351C10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41680" y="4046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91280" y="1052640"/>
            <a:ext cx="78570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Die wichtigsten Verzeichniss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 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urzelverzeichnis des Dateibau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etc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inux-Verwaltungs– und Konfigurations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boot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nthält Kernel und Bootinforma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usr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ommandos, Kernel-Sourcen, Dok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bin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omman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var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ystemspezifische variable Dateien, Spoo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mnt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Mountpunkt für andere Dateisyst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home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ogin-Verzeichnisse aller Benut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root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Home-Verzeichnis des Super-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tmp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temporäre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dev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eräte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lib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ernelmodule und Programmbiblioth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proc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rozessdatei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4B0-6200-463F-865D-7113D3C491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1042920" y="1052640"/>
            <a:ext cx="705636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df [Filesyste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f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disk free) zeigt das vorhandene Fil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den genutzten Speicher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6120" y="3581280"/>
            <a:ext cx="788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edes Verzeichnis und jede Datei gehört zu genau ein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ile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edes Filesystem liegt in einem eigenen Bereich auf 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estplatte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541680" y="4046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875-6BD4-4B5A-9AD2-5BCCF3960D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116000" y="1052640"/>
            <a:ext cx="6840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.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ellt das aktuelle Verzeichnis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..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igt auf das Eltern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~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igt auf das Home-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34720" y="4797360"/>
            <a:ext cx="689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bsoluter Pfad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r Pfad beginnt im Wurzelverzeichn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lativer Pfad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r Pfad beginnt im aktuellen 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41680" y="40464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57840" y="2708280"/>
            <a:ext cx="45698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 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home/team01/Q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rog/hallo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../team02/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.tem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DE2-31F8-40CA-AFA5-45D51983D9F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05080" y="4046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w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896760" y="3274920"/>
            <a:ext cx="32896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home/team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6920" y="1052640"/>
            <a:ext cx="74901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p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w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present working directory) zeigt den absolu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n Pfadnamen des aktuellen Verzeichn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71200" y="5114880"/>
            <a:ext cx="73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usgabe erfolgt auf der Standardausgabeeinh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ip: Benutzen Sie pwd, bevor Sie Daten lö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475-2B18-4657-894D-CE412A4297D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18840" y="40464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480240" y="2997360"/>
            <a:ext cx="80629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d /tmp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chseln in das Verzeichnis t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d quelle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chseln in das Unterverzeichnis qu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d –  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chseln in das vorherige Verzeich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..    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chseln in das Elternverzeich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d      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chseln in das home(login)-Verzeich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4000" y="1052640"/>
            <a:ext cx="85690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cd [Verzeichni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c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change directory) wechselt in ein anderes 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03200" y="544500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ür das angegebene Verzeichnis muss der Benutzer e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berechtigung besitz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A7C-ED5E-440D-B82D-86DBEBE2977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98560" y="40464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24000" y="1052640"/>
            <a:ext cx="856908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ximal 255 alphanumerische 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llte nicht mit + oder – begi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llte keine Leerzeichen ent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Namen von Systemkommandos verw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- und Kleinschreibung be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steckte Dateien beginnen mit '.' am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Sonderzeichen der Shell * ? &gt; &lt; / ;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3920" y="4749840"/>
            <a:ext cx="841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alls der Dateiname Leerzeichen oder Sonderzeichen beinhal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t, muss er mit Anführungszeichen aufgerufen werd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'8*4' 'laut&amp;leis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8C0-F42F-40BC-A15E-885294AC47F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83280" y="40464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inamen-Erweit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1560960" y="4724280"/>
            <a:ext cx="57312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hallo.c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-Quelldate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tdio.h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-Headerdatei (Includedate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523880" y="1397160"/>
          <a:ext cx="5569200" cy="2800080"/>
        </p:xfrm>
        <a:graphic>
          <a:graphicData uri="http://schemas.openxmlformats.org/drawingml/2006/table">
            <a:tbl>
              <a:tblPr/>
              <a:tblGrid>
                <a:gridCol w="2184480"/>
                <a:gridCol w="3384720"/>
              </a:tblGrid>
              <a:tr h="57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weiter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eut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llcode für </a:t>
                      </a: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er-Datei für </a:t>
                      </a: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llcode für </a:t>
                      </a: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rtr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llcode für </a:t>
                      </a:r>
                      <a:r>
                        <a:rPr b="1" lang="de-D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s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71E-B9DF-449A-948C-B6D12D7C695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78160" y="4046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le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45320" y="4287960"/>
            <a:ext cx="40212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le m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mbox: ASCII mail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260360" y="1052640"/>
            <a:ext cx="6480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ile Date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fil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tellt den Dateityp f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93040" y="3321000"/>
            <a:ext cx="3503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</a:rPr>
              <a:t>Identifizierte Dateityp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CII-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-Programm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hell script – b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zeich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912-90FD-4C74-9459-6AEFD3C3399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4360" y="1125360"/>
            <a:ext cx="6912000" cy="4319640"/>
            <a:chOff x="684360" y="1125360"/>
            <a:chExt cx="6912000" cy="4319640"/>
          </a:xfrm>
        </p:grpSpPr>
        <p:grpSp>
          <p:nvGrpSpPr>
            <p:cNvPr id="132" name=""/>
            <p:cNvGrpSpPr/>
            <p:nvPr/>
          </p:nvGrpSpPr>
          <p:grpSpPr>
            <a:xfrm>
              <a:off x="684360" y="1125360"/>
              <a:ext cx="6912000" cy="4319640"/>
              <a:chOff x="684360" y="1125360"/>
              <a:chExt cx="6912000" cy="4319640"/>
            </a:xfrm>
          </p:grpSpPr>
          <p:sp>
            <p:nvSpPr>
              <p:cNvPr id="133" name=""/>
              <p:cNvSpPr/>
              <p:nvPr/>
            </p:nvSpPr>
            <p:spPr>
              <a:xfrm>
                <a:off x="684360" y="1125360"/>
                <a:ext cx="6912000" cy="431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4360" y="4725720"/>
                <a:ext cx="6912000" cy="719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4360" y="4006800"/>
                <a:ext cx="6912000" cy="718920"/>
              </a:xfrm>
              <a:prstGeom prst="rect">
                <a:avLst/>
              </a:prstGeom>
              <a:solidFill>
                <a:srgbClr val="a7f7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4360" y="2636640"/>
                <a:ext cx="6912000" cy="1366920"/>
              </a:xfrm>
              <a:prstGeom prst="rect">
                <a:avLst/>
              </a:prstGeom>
              <a:solidFill>
                <a:srgbClr val="f9a5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4360" y="2636640"/>
                <a:ext cx="3456000" cy="1366920"/>
              </a:xfrm>
              <a:prstGeom prst="rect">
                <a:avLst/>
              </a:prstGeom>
              <a:solidFill>
                <a:srgbClr val="efe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4360" y="1125360"/>
                <a:ext cx="4176720" cy="1511280"/>
              </a:xfrm>
              <a:custGeom>
                <a:avLst/>
                <a:gdLst/>
                <a:ahLst/>
                <a:rect l="l" t="t" r="r" b="b"/>
                <a:pathLst>
                  <a:path w="2631" h="952">
                    <a:moveTo>
                      <a:pt x="0" y="0"/>
                    </a:moveTo>
                    <a:lnTo>
                      <a:pt x="0" y="952"/>
                    </a:lnTo>
                    <a:lnTo>
                      <a:pt x="2631" y="952"/>
                    </a:lnTo>
                    <a:lnTo>
                      <a:pt x="2631" y="499"/>
                    </a:lnTo>
                    <a:lnTo>
                      <a:pt x="1769" y="499"/>
                    </a:lnTo>
                    <a:lnTo>
                      <a:pt x="17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f7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168560" y="162864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Linux-Sh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9840" y="1454040"/>
              <a:ext cx="227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nwendun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68360" y="304452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ei-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9040" y="3044520"/>
              <a:ext cx="25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zess-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62520" y="412416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rätetrei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60240" y="48448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7812000" y="2637000"/>
            <a:ext cx="665280" cy="2089080"/>
            <a:chOff x="7812000" y="2637000"/>
            <a:chExt cx="665280" cy="2089080"/>
          </a:xfrm>
        </p:grpSpPr>
        <p:sp>
          <p:nvSpPr>
            <p:cNvPr id="148" name=""/>
            <p:cNvSpPr/>
            <p:nvPr/>
          </p:nvSpPr>
          <p:spPr>
            <a:xfrm rot="16200000">
              <a:off x="7573320" y="3458880"/>
              <a:ext cx="12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Arial"/>
                </a:rPr>
                <a:t>Kern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12000" y="2637000"/>
              <a:ext cx="0" cy="20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451640" y="26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1640" y="4726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8520" y="5559480"/>
            <a:ext cx="84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Kernel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zige Teil, mit vollständigem Zugriff auf alle Teile des Compu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70360" y="4046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3F8-6590-44A4-B016-011E075C11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3: Datei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85F-DC11-438E-942C-5F88C039750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74760" y="4046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etzungs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822240" y="2060640"/>
            <a:ext cx="76788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da dat dat.c duett Dattel Datwars d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du?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u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d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s: 0653-341 The file dat?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rm –i ?u?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m: dutt entfernen?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47640" y="1052640"/>
            <a:ext cx="612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99"/>
                </a:solidFill>
                <a:latin typeface="Courier New"/>
                <a:ea typeface="Courier New"/>
              </a:rPr>
              <a:t>?</a:t>
            </a: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ellvertreter für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i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360" y="5619600"/>
            <a:ext cx="77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Fragezeichen ? zeigt nicht versteckte Dateien an, d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it . (Punkt) begi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845-2454-4A60-A409-678F0756D36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074760" y="4046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etzungs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822600" y="2060640"/>
            <a:ext cx="7495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da dat dat.c duett Dattel Datwars d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p du* 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en duett und dutt werden nach /tmp kopi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i D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4711 Dattel 4712 Datw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en Dattel und Datwars werden aufgelistet.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47640" y="1052640"/>
            <a:ext cx="612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99"/>
                </a:solidFill>
                <a:latin typeface="Courier New"/>
                <a:ea typeface="Courier New"/>
              </a:rPr>
              <a:t>*</a:t>
            </a: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rsetzt alle 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91560" y="56196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Stern * zeigt nicht versteckte Dateien an, die m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. (Punkt) begi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151-2FAD-403B-8121-9FB88A821CC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074760" y="4046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etzungs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7360" y="2239920"/>
            <a:ext cx="77259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[A-Z]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et alle Dateinamen, die mit Großbuchstaben beg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[dD]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et alle Dateienamen, die mit du und Du beg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p *.[ch]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piert alle Dateien mit Extentions c oder h nach /tmp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9280" y="1052640"/>
            <a:ext cx="8785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99"/>
                </a:solidFill>
                <a:latin typeface="Courier New"/>
                <a:ea typeface="Courier New"/>
              </a:rPr>
              <a:t>[]</a:t>
            </a: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inhaltet eine Liste erlaubter Ersetzungs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3400" y="5300640"/>
            <a:ext cx="76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 das erste Zeichen in der eckigen Klammer ein ! (Au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ufezeichen), dann wird der Sinn der Prüfung negi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A8D-C6A0-4513-B35F-FA59E0C7F8D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4: Ersetzungszei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C1C-8B0E-43AA-A12E-AAE9A905AE2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97960" y="404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u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324000" y="1052640"/>
            <a:ext cx="8640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du [-Option] [Argument1] [Argument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disk usage) bestimmt den Platzverbrauch von Dat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3120" y="3252960"/>
            <a:ext cx="8024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s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unterdrückt die einzelne Ausgabe der Unterverzeich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c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erzeichnisse werden zusammengezähl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x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erzeichnisse anderer Filesysteme, die man z.B. 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m Befehl mount einbinden kann, werden üb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pr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204-C837-4A37-81EF-437977E19C0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534960" y="1325520"/>
            <a:ext cx="76788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rw- r- r- 1 s889636 users 18752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du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20 mein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20" y="3581280"/>
            <a:ext cx="840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ede Datei wird in Blöcke (Win:Zuordnungseinheit) abgele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 eine Festplatte in Blöcke von 32kB formatiert, so wird e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4 kB große Datei in einen 32kB großen Block abgele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Datei meinfile ist 18752 Bytes groß und belegt 20kB, wen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Festplatte in 2kB-Blöcke formatiert 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297960" y="404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u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15E-EAF2-47E8-8A51-2B81E25C062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609480" y="1052640"/>
            <a:ext cx="79092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df [-Option] [Argument1] [Argument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f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disk free) bestimmt den freien Speicher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2640" y="2924280"/>
            <a:ext cx="80978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i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gabe in Dateinummern (In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m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gabe in Megaby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T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usätzlich noch eine Spalte mit dem Typ d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ilesystems (z.B. ext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ie Summe von belegtem und verfügbarem Platz entspr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icht der Gesamtsumme. Ca. 5% werden für den Benut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oot reservi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339360" y="40464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f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CD5-A0EF-4996-B132-7B232FD94C1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318240" y="1325520"/>
            <a:ext cx="877608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teisystem 1k-Blöcke Used Availb Ben% mon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dev/hda2    717271  537563 179716  75%  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dev/hda3    504418  104104 374681  22%   /u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01040" y="431316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Festplatte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a2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st zu 75% benutz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39360" y="40464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f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0C1-2B00-4993-B1BF-8FAE4D3B198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973960" y="40464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Dat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2198520" y="1052640"/>
            <a:ext cx="471024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gzip [-Option] 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zip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komprimiert Dat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8560" y="2924280"/>
            <a:ext cx="83401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edundantes Komprim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d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kom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chnelles komprimieren, niedrige Komprim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2..9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omprimierung ohne Rücksicht auf die Rechenz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61440" y="5095800"/>
            <a:ext cx="818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redundante Inhalte einer Datei werden beseiti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zip bemüht sich um einen kompromiss zwischen Rechen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fwand und erzielter Kom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A65-8021-46CD-9D8C-02322489530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0240" y="4046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6720" y="1700280"/>
            <a:ext cx="760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erne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wird beim Systemstart resident in 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peicher gela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 enthält im wesentli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rozess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und Prozesssteu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Verwaltung des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rbeitsspei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Verwaltung des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atei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n-/Ausgabesystem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mit Puffermechanis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den Gerätetreib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B5E-F42B-4199-A619-64D447D04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973960" y="40464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Dat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734760" y="1028880"/>
            <a:ext cx="79743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gzip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tei datei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at datei1 datei2 | gzip &gt; datei3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tei1 datei2 datei3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gzip –d datei3.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atei1 datei2 datei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i3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hat verknüpften Inhalt von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i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i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gzip –r /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Dateien im Verzeichnis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temp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werden einzeln gepac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918-B730-40A2-B20C-9D62F371E05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900000" y="1052640"/>
            <a:ext cx="720108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mkdir [Verzeichni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kdi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make directory) erzeugt ein 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2640" y="5475240"/>
            <a:ext cx="851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um Anlegen eines Verzeichnisses muss Schreibberechtig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ür das Elternverzeichnis beste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8000" y="2909880"/>
            <a:ext cx="49356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cd /home/team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kdir Q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kdir /home/team01/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kdir dat1 dat2 da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867280" y="3284640"/>
            <a:ext cx="2879640" cy="1800000"/>
            <a:chOff x="5867280" y="3284640"/>
            <a:chExt cx="2879640" cy="1800000"/>
          </a:xfrm>
        </p:grpSpPr>
        <p:sp>
          <p:nvSpPr>
            <p:cNvPr id="693" name="File"/>
            <p:cNvSpPr/>
            <p:nvPr/>
          </p:nvSpPr>
          <p:spPr>
            <a:xfrm>
              <a:off x="6659280" y="3284640"/>
              <a:ext cx="1295280" cy="6285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eam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ile"/>
            <p:cNvSpPr/>
            <p:nvPr/>
          </p:nvSpPr>
          <p:spPr>
            <a:xfrm>
              <a:off x="5867280" y="4456080"/>
              <a:ext cx="1295280" cy="6285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Quel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ile"/>
            <p:cNvSpPr/>
            <p:nvPr/>
          </p:nvSpPr>
          <p:spPr>
            <a:xfrm>
              <a:off x="7451640" y="4456080"/>
              <a:ext cx="1295280" cy="6285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a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06920" y="4003560"/>
              <a:ext cx="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43280" y="4219560"/>
              <a:ext cx="165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9280" y="4219560"/>
              <a:ext cx="0" cy="289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43280" y="4219560"/>
              <a:ext cx="0" cy="289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F5C-6A61-43CE-8622-FB68E21BB37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539640" y="1052640"/>
            <a:ext cx="81360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rmdir [Verzeichni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kdi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remove directory) löscht ein leeres 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60280" y="5300640"/>
            <a:ext cx="874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s Verzeichnis muss leer se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eine Meldung, wenn Kommando erfolgrei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um Löschen eines Verzeichnisses muss Schreibberechtig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ste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4760" y="2909880"/>
            <a:ext cx="6215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rmdir Quelle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mdir: Quelle:Directory not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084720" y="3098880"/>
            <a:ext cx="2879640" cy="2708280"/>
            <a:chOff x="6084720" y="3098880"/>
            <a:chExt cx="2879640" cy="2708280"/>
          </a:xfrm>
        </p:grpSpPr>
        <p:grpSp>
          <p:nvGrpSpPr>
            <p:cNvPr id="709" name=""/>
            <p:cNvGrpSpPr/>
            <p:nvPr/>
          </p:nvGrpSpPr>
          <p:grpSpPr>
            <a:xfrm>
              <a:off x="6084720" y="3098880"/>
              <a:ext cx="2879640" cy="1800000"/>
              <a:chOff x="6084720" y="3098880"/>
              <a:chExt cx="2879640" cy="1800000"/>
            </a:xfrm>
          </p:grpSpPr>
          <p:sp>
            <p:nvSpPr>
              <p:cNvPr id="710" name="File"/>
              <p:cNvSpPr/>
              <p:nvPr/>
            </p:nvSpPr>
            <p:spPr>
              <a:xfrm>
                <a:off x="6876720" y="3098880"/>
                <a:ext cx="1295280" cy="62856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team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ile"/>
              <p:cNvSpPr/>
              <p:nvPr/>
            </p:nvSpPr>
            <p:spPr>
              <a:xfrm>
                <a:off x="6084720" y="4270320"/>
                <a:ext cx="1295280" cy="62856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Quel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ile"/>
              <p:cNvSpPr/>
              <p:nvPr/>
            </p:nvSpPr>
            <p:spPr>
              <a:xfrm>
                <a:off x="7669080" y="4270320"/>
                <a:ext cx="1295280" cy="62856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Dat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524360" y="3817800"/>
                <a:ext cx="0" cy="216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60720" y="4033800"/>
                <a:ext cx="1656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316720" y="4033800"/>
                <a:ext cx="0" cy="289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660720" y="4033800"/>
                <a:ext cx="0" cy="289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372000" y="4898880"/>
              <a:ext cx="1284840" cy="908280"/>
              <a:chOff x="6372000" y="4898880"/>
              <a:chExt cx="1284840" cy="908280"/>
            </a:xfrm>
          </p:grpSpPr>
          <p:grpSp>
            <p:nvGrpSpPr>
              <p:cNvPr id="718" name=""/>
              <p:cNvGrpSpPr/>
              <p:nvPr/>
            </p:nvGrpSpPr>
            <p:grpSpPr>
              <a:xfrm>
                <a:off x="6372000" y="4898880"/>
                <a:ext cx="216000" cy="720000"/>
                <a:chOff x="6372000" y="4898880"/>
                <a:chExt cx="216000" cy="7200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6372000" y="4898880"/>
                  <a:ext cx="0" cy="7200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372000" y="5618880"/>
                  <a:ext cx="2160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372000" y="5299560"/>
                  <a:ext cx="2160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>
                <a:off x="6590520" y="5042880"/>
                <a:ext cx="106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hallo.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a.ou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B27-D46B-438D-A1AE-353658C522A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>
            <a:off x="468360" y="1052640"/>
            <a:ext cx="813744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ind Verzeichnis Suchkriterium A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fin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findet Dateien nach bestimmten Suchkriter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01080" y="2781360"/>
            <a:ext cx="53715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uchkriteri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inum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teinum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type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teity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perm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ugriffsrech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links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inkzäh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user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gentümer, Benutzer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group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ruppenzuordn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size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Größ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mtime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letztes Änderungsda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name 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tei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91040" y="4046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60B-B576-4AE0-B457-5155B8044DA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217440" y="1052640"/>
            <a:ext cx="867564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54 –rw-r--r-- 2 team1 user 11 Jun 5 10:03 da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23 drwxr-xr-x 3 team1 user 22 Jun 5 10:07 vz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um     -perm               -user              -size                            -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ype                  -links            -group                -m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zeich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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ymb.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8360" y="249228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63640" y="249228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35280" y="249228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435640" y="249228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388360" y="249228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71640" y="2492280"/>
            <a:ext cx="0" cy="1008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87640" y="2492280"/>
            <a:ext cx="0" cy="1008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16360" y="2492280"/>
            <a:ext cx="0" cy="1008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2492280"/>
            <a:ext cx="0" cy="1008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191040" y="4046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A33-A4EC-4A94-B352-73F80354A62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>
            <a:off x="464400" y="1557360"/>
            <a:ext cx="83448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. -name da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che im aktuellen Verzeichnis und Unterverzeich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usr/doc –name README 2&gt; /dev/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ür jedes Verzeichnis, das nicht durchsucht werden darf, w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e Fehlermeldung nach /dev/null (Papierkorb) umgelen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tmp -user te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home –inum 5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. –type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91040" y="4046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C41-1372-42BD-8063-10B1DF91F3B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684360" y="1052640"/>
            <a:ext cx="77752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ind -ex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xec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Benutzer kann 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ind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mitteilen, was mit d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fundenen Objekten geschehen so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6600" y="3357720"/>
            <a:ext cx="74959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. -name "*.alt" –exec rm –i {} \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Objekte sind im Kommando ansprechbar mit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{}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r Befehl muss mit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\;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abgeschlossen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392520" y="2946240"/>
            <a:ext cx="1889280" cy="854280"/>
            <a:chOff x="6392520" y="2946240"/>
            <a:chExt cx="1889280" cy="854280"/>
          </a:xfrm>
        </p:grpSpPr>
        <p:sp>
          <p:nvSpPr>
            <p:cNvPr id="754" name=""/>
            <p:cNvSpPr/>
            <p:nvPr/>
          </p:nvSpPr>
          <p:spPr>
            <a:xfrm>
              <a:off x="6392520" y="29462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Leerzeichen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7034040" y="3333240"/>
              <a:ext cx="554040" cy="467280"/>
              <a:chOff x="7034040" y="3333240"/>
              <a:chExt cx="554040" cy="467280"/>
            </a:xfrm>
          </p:grpSpPr>
          <p:sp>
            <p:nvSpPr>
              <p:cNvPr id="756" name=""/>
              <p:cNvSpPr/>
              <p:nvPr/>
            </p:nvSpPr>
            <p:spPr>
              <a:xfrm flipV="1">
                <a:off x="7034040" y="3333240"/>
                <a:ext cx="281160" cy="4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>
                <a:off x="7307280" y="3349800"/>
                <a:ext cx="28080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3191040" y="4046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738-3911-4B4D-B7D0-D579B3C03BE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550800" y="1154160"/>
            <a:ext cx="803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Suchkriterien können durch Operatoren verknüpft werd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547640" y="2265480"/>
          <a:ext cx="6121440" cy="3827520"/>
        </p:xfrm>
        <a:graphic>
          <a:graphicData uri="http://schemas.openxmlformats.org/drawingml/2006/table">
            <a:tbl>
              <a:tblPr/>
              <a:tblGrid>
                <a:gridCol w="3022560"/>
                <a:gridCol w="309888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eut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( </a:t>
                      </a: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kriterien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mmer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-Verknüpf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-Verknüpf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64" name=""/>
          <p:cNvSpPr/>
          <p:nvPr/>
        </p:nvSpPr>
        <p:spPr>
          <a:xfrm>
            <a:off x="3191040" y="4046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4C7-5FA9-4B26-B4BC-43E85CA081C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144360" y="1557360"/>
            <a:ext cx="899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tmp –user team2 –ls –exec rm –i {} \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/home –group users !\(-user team1 –o\) –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find -type f –a –user team1 –exec chmod o-rw {} \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06800" y="4106880"/>
            <a:ext cx="834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wei Suchkriterien, die ohne Operator nebeneinander stehe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erden wie eine UND-Verknüpfung behande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191040" y="4046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ind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BED-95FA-4CB1-BAA3-BB479BA72BC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"/>
          <p:cNvSpPr/>
          <p:nvPr/>
        </p:nvSpPr>
        <p:spPr>
          <a:xfrm>
            <a:off x="755640" y="1197000"/>
            <a:ext cx="763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cp Quelldatei Ziel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cp Quelldateien Zielverzeich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cp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copy) kopiert Dateien und Verzeich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2720" y="3376440"/>
            <a:ext cx="8316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i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nutzer wird informiert, wenn Zieldatei sch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orhanden ist. Mit j oder y Überschreiben bestäti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teien und Unterverzeichnisse werden rekurs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(inklusive Unterverzeichnisse) kopi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erzeichnisse werden rekursiv (inklusive Unterv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eichnisse) kopi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u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opiert, wenn die Quelldatei neuer als die Zieldatei 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ED7-9B5D-471E-B75D-C07E5EDBDAC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908000" y="547560"/>
            <a:ext cx="5832000" cy="5832000"/>
            <a:chOff x="1908000" y="547560"/>
            <a:chExt cx="5832000" cy="5832000"/>
          </a:xfrm>
        </p:grpSpPr>
        <p:grpSp>
          <p:nvGrpSpPr>
            <p:cNvPr id="160" name=""/>
            <p:cNvGrpSpPr/>
            <p:nvPr/>
          </p:nvGrpSpPr>
          <p:grpSpPr>
            <a:xfrm>
              <a:off x="1908000" y="547560"/>
              <a:ext cx="5832000" cy="5832000"/>
              <a:chOff x="1908000" y="547560"/>
              <a:chExt cx="5832000" cy="5832000"/>
            </a:xfrm>
          </p:grpSpPr>
          <p:sp>
            <p:nvSpPr>
              <p:cNvPr id="161" name=""/>
              <p:cNvSpPr/>
              <p:nvPr/>
            </p:nvSpPr>
            <p:spPr>
              <a:xfrm>
                <a:off x="1908000" y="547560"/>
                <a:ext cx="5832000" cy="5832000"/>
              </a:xfrm>
              <a:prstGeom prst="ellipse">
                <a:avLst/>
              </a:prstGeom>
              <a:solidFill>
                <a:srgbClr val="a7f7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2240" y="1801800"/>
                <a:ext cx="3321360" cy="3321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88960" y="2828160"/>
                <a:ext cx="1268280" cy="1268280"/>
              </a:xfrm>
              <a:prstGeom prst="ellipse">
                <a:avLst/>
              </a:prstGeom>
              <a:solidFill>
                <a:srgbClr val="f9a5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V="1">
              <a:off x="5742720" y="1028160"/>
              <a:ext cx="639360" cy="10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3265560" y="1028520"/>
              <a:ext cx="798120" cy="9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226960" y="2146680"/>
              <a:ext cx="111816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986840" y="3744720"/>
              <a:ext cx="119772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026520" y="4783680"/>
              <a:ext cx="797400" cy="9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8900000">
            <a:off x="4214880" y="31870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900000">
            <a:off x="5030280" y="3979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900000">
            <a:off x="5736600" y="479664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2997360"/>
            <a:ext cx="2376720" cy="1295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5840" y="3933720"/>
            <a:ext cx="1586160" cy="2232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03840" y="907920"/>
            <a:ext cx="18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7920" y="17002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12920" y="2133720"/>
            <a:ext cx="192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ch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1640" y="27813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rkze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7760" y="5373720"/>
            <a:ext cx="18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grammi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4320" y="4149720"/>
            <a:ext cx="210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6" idx="1"/>
            <a:endCxn id="176" idx="1"/>
          </p:cNvCxnSpPr>
          <p:nvPr/>
        </p:nvCxnSpPr>
        <p:spPr>
          <a:xfrm>
            <a:off x="5812920" y="2788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8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96720" y="37296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2BC-1680-4B78-B5BC-85331C47E3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949320" y="1738440"/>
            <a:ext cx="7656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cp .profile .profile.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 .. .profile. profile.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cp /home/hallo.c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hallo.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$ cp hallo.c /t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386240" y="3790800"/>
            <a:ext cx="4263480" cy="862560"/>
            <a:chOff x="4386240" y="3790800"/>
            <a:chExt cx="4263480" cy="862560"/>
          </a:xfrm>
        </p:grpSpPr>
        <p:sp>
          <p:nvSpPr>
            <p:cNvPr id="782" name=""/>
            <p:cNvSpPr/>
            <p:nvPr/>
          </p:nvSpPr>
          <p:spPr>
            <a:xfrm>
              <a:off x="4462560" y="4224240"/>
              <a:ext cx="4187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kopiert in eigenes Verzeichn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6240" y="3790800"/>
              <a:ext cx="287280" cy="433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BCC-5066-46AC-9307-A6399926540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"/>
          <p:cNvSpPr/>
          <p:nvPr/>
        </p:nvSpPr>
        <p:spPr>
          <a:xfrm>
            <a:off x="468360" y="1052640"/>
            <a:ext cx="8137440" cy="23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mv Quelldatei Ziel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mv Quelldateien Zielverzeich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mv Quellverzeichnis Zielverzeich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v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move) verschiebt Dateien und Verzeich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79160" y="3645000"/>
            <a:ext cx="831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i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nutzer wird informiert, wenn Zieldatei sch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orhanden ist. Mit j oder y Überschreiben bestäti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7360" y="5013360"/>
            <a:ext cx="825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v nennt Dateien um, wenn das zweite Argument ein neu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name is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mv nennt Verzeichnisse um, wenn das zweite Argument 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unbekanntes Verzeichnis is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2A6-EC22-4E32-830E-C1E2BC9DEB9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826920" y="1327320"/>
            <a:ext cx="734544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v hallo.c h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 hallo.c wird umbenan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v h.c 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 h.c wird nach /tmp verscho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mv prog/hallo.c ../team02/Quelle/h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 hallo.c wird in anderes Verzeichnis verscho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umbenan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52A-BB10-4CA1-BD30-C54236BB7B1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684360" y="1052640"/>
            <a:ext cx="7848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n Quelldatei Link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ink) verbindet Dateien mit einem regulären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48280" y="3284640"/>
            <a:ext cx="8350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n ist ein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regulärer Lin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zw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Hardlin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 ln kann man einen weiteren Dateinamen auf eine vo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andene Datei zeigen lass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er Dateiname, der in einem Verzeichnis aufgelistet wird, 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ein Zeiger auf eine Datei, die innerhalb des Datei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urch eine Dateinummer repräsentier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weck: Speicherplatzersparnis (kein kopiere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ame der verknüpften Datei nicht erkennb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80E-4354-4968-B8D2-EE464B69EA8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>
            <a:off x="703440" y="1557360"/>
            <a:ext cx="7767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080 –rw-r--r–- 2 s889636 users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n datei1 dat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080 –rw-r--r–- 2 s889636 users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080 –rw-r--r–- 2 s889636 users dat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311120" y="4079880"/>
            <a:ext cx="3563640" cy="1770480"/>
            <a:chOff x="1311120" y="4079880"/>
            <a:chExt cx="3563640" cy="1770480"/>
          </a:xfrm>
        </p:grpSpPr>
        <p:sp>
          <p:nvSpPr>
            <p:cNvPr id="808" name=""/>
            <p:cNvSpPr/>
            <p:nvPr/>
          </p:nvSpPr>
          <p:spPr>
            <a:xfrm>
              <a:off x="1311120" y="4473360"/>
              <a:ext cx="75888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94000" y="4079880"/>
              <a:ext cx="590400" cy="13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68400" y="5421240"/>
              <a:ext cx="30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gleiche Dateinumm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33B-F639-4A27-AE63-C1F4106085D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684360" y="1052640"/>
            <a:ext cx="784836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n -s Quelldatei Link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n -s Quellverzeichnis Link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ink) verbindet Dateien symbol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49000" y="3284640"/>
            <a:ext cx="836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n ist ein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ymbolischer Lin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zw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oftlin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einem symbolischen Link wird im Verzeichnis eine Da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it dem Namen Linkname erstellt. Die Datei beinhaltet 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adnamen der Quelldatei oder des Quellverzeichnisses, au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n der Link zeigt (Verknüpfungsquelle ist sichtbar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ch mit einem Softlink kann die Originaldatei veränd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Bei der Angabe der Quelldatei/-verzeichnisses absol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Pfadnamen verwen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B80-86F1-43FD-BE62-DCAFA84A440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282600" y="1528920"/>
            <a:ext cx="88614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1080 –rw-r--r–- 2 s889636 users date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n –s datei1 dat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333399"/>
                </a:solidFill>
                <a:latin typeface="Courier New"/>
                <a:ea typeface="Courier New"/>
              </a:rPr>
              <a:t>1080 –rw-r--r-– 2 s889636 users datei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333399"/>
                </a:solidFill>
                <a:latin typeface="Courier New"/>
                <a:ea typeface="Courier New"/>
              </a:rPr>
              <a:t>1081 lrwxrwxrwx 2 s889636 users datlink -&gt; datei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853920" y="4008600"/>
            <a:ext cx="2692800" cy="2105280"/>
            <a:chOff x="853920" y="4008600"/>
            <a:chExt cx="2692800" cy="2105280"/>
          </a:xfrm>
        </p:grpSpPr>
        <p:sp>
          <p:nvSpPr>
            <p:cNvPr id="823" name=""/>
            <p:cNvSpPr/>
            <p:nvPr/>
          </p:nvSpPr>
          <p:spPr>
            <a:xfrm>
              <a:off x="853920" y="4401720"/>
              <a:ext cx="758880" cy="9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6800" y="4008600"/>
              <a:ext cx="590400" cy="13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10840" y="5349600"/>
              <a:ext cx="213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verschieden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Dateinummer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5924880" y="4444920"/>
            <a:ext cx="2865960" cy="1572480"/>
            <a:chOff x="5924880" y="4444920"/>
            <a:chExt cx="2865960" cy="1572480"/>
          </a:xfrm>
        </p:grpSpPr>
        <p:sp>
          <p:nvSpPr>
            <p:cNvPr id="827" name=""/>
            <p:cNvSpPr/>
            <p:nvPr/>
          </p:nvSpPr>
          <p:spPr>
            <a:xfrm>
              <a:off x="5924880" y="5253120"/>
              <a:ext cx="286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sichtbar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Verknüpfungsquel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286400" y="4444920"/>
              <a:ext cx="49212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BD1-CA6A-4393-81F7-3BAE1C997B9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"/>
          <p:cNvSpPr/>
          <p:nvPr/>
        </p:nvSpPr>
        <p:spPr>
          <a:xfrm>
            <a:off x="828720" y="1052640"/>
            <a:ext cx="748836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rm Da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rm Verzeich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m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remove) löscht Dateien, Verzeichnisse,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80840" y="3473280"/>
            <a:ext cx="77914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i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ordert den Benutzer vor Löschen jeder einzeln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atei zur Bestätigung au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r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Verzeichnisse werden rekursiv (inklusive Unterv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eichnisse) gelöscht (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  <a:ea typeface="Arial"/>
              </a:rPr>
              <a:t>gefährlic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303-7FD5-43B5-B8B4-56C9B4F03AA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"/>
          <p:cNvSpPr/>
          <p:nvPr/>
        </p:nvSpPr>
        <p:spPr>
          <a:xfrm>
            <a:off x="2410920" y="4046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en mit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03280" y="1557360"/>
            <a:ext cx="6480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rm hallo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 hallo.c lö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rm –ir 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og/hallo.c entfernen?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og/xyz entfernen?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j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og entfernen?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zeichnis /prog mit Rückfragen lösc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EBF-C6FA-4FE7-9B59-1E7157FF492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"/>
          <p:cNvSpPr/>
          <p:nvPr/>
        </p:nvSpPr>
        <p:spPr>
          <a:xfrm>
            <a:off x="828720" y="1052640"/>
            <a:ext cx="748836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grep Suchmuster D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grep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zeigt Zeilen einer Datei, die das Suchm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0" y="3146400"/>
            <a:ext cx="82868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i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keine Unterscheidung von Groß- und Kleinschreibu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l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ur Dateinamen, wo Suchmuster gefunden wur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v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ur Zeilen, die das Suchmuster nicht enthal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n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undzeilen mit vorangestellter Zeilennum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w </a:t>
            </a:r>
            <a:r>
              <a:rPr b="1" lang="de-DE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Wortmuster, Suchmuster muss eigenes Wort in 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eile s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27760" y="5881680"/>
            <a:ext cx="780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ochkommata, wenn Suchmuster Sonderzeichen enthä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46040" y="4046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ep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1B3-C1DF-464B-AC5E-A202CE2279D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1701720"/>
            <a:ext cx="5616360" cy="3741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312560" y="1359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ourne-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48080" y="1341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-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98280" y="3213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rn-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96440" y="47721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700000">
            <a:off x="2339280" y="2421720"/>
            <a:ext cx="1727280" cy="287280"/>
          </a:xfrm>
          <a:prstGeom prst="rightArrow">
            <a:avLst>
              <a:gd name="adj1" fmla="val 50000"/>
              <a:gd name="adj2" fmla="val 15031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8100000">
            <a:off x="5076360" y="2418840"/>
            <a:ext cx="1727280" cy="28764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5080" y="1676520"/>
            <a:ext cx="971280" cy="459720"/>
            <a:chOff x="505080" y="1676520"/>
            <a:chExt cx="971280" cy="459720"/>
          </a:xfrm>
        </p:grpSpPr>
        <p:sp>
          <p:nvSpPr>
            <p:cNvPr id="192" name=""/>
            <p:cNvSpPr/>
            <p:nvPr/>
          </p:nvSpPr>
          <p:spPr>
            <a:xfrm>
              <a:off x="505080" y="16765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61960" y="1773360"/>
              <a:ext cx="914400" cy="295200"/>
            </a:xfrm>
            <a:custGeom>
              <a:avLst/>
              <a:gdLst/>
              <a:ahLst/>
              <a:rect l="l" t="t" r="r" b="b"/>
              <a:pathLst>
                <a:path w="576" h="186">
                  <a:moveTo>
                    <a:pt x="0" y="0"/>
                  </a:moveTo>
                  <a:lnTo>
                    <a:pt x="311" y="0"/>
                  </a:lnTo>
                  <a:lnTo>
                    <a:pt x="576" y="18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926400" y="620640"/>
            <a:ext cx="814320" cy="792360"/>
            <a:chOff x="6926400" y="620640"/>
            <a:chExt cx="814320" cy="792360"/>
          </a:xfrm>
        </p:grpSpPr>
        <p:sp>
          <p:nvSpPr>
            <p:cNvPr id="195" name=""/>
            <p:cNvSpPr/>
            <p:nvPr/>
          </p:nvSpPr>
          <p:spPr>
            <a:xfrm>
              <a:off x="7022160" y="6206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c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26400" y="1052640"/>
              <a:ext cx="814320" cy="360360"/>
            </a:xfrm>
            <a:custGeom>
              <a:avLst/>
              <a:gdLst/>
              <a:ahLst/>
              <a:rect l="l" t="t" r="r" b="b"/>
              <a:pathLst>
                <a:path w="1148" h="181">
                  <a:moveTo>
                    <a:pt x="1148" y="0"/>
                  </a:moveTo>
                  <a:lnTo>
                    <a:pt x="105" y="0"/>
                  </a:lnTo>
                  <a:lnTo>
                    <a:pt x="0" y="18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859280" y="5157720"/>
            <a:ext cx="3999600" cy="891720"/>
            <a:chOff x="4859280" y="5157720"/>
            <a:chExt cx="3999600" cy="891720"/>
          </a:xfrm>
        </p:grpSpPr>
        <p:sp>
          <p:nvSpPr>
            <p:cNvPr id="198" name=""/>
            <p:cNvSpPr/>
            <p:nvPr/>
          </p:nvSpPr>
          <p:spPr>
            <a:xfrm>
              <a:off x="5868000" y="5589720"/>
              <a:ext cx="299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Bourne Again Sh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59280" y="5157720"/>
              <a:ext cx="3816360" cy="432000"/>
            </a:xfrm>
            <a:custGeom>
              <a:avLst/>
              <a:gdLst/>
              <a:ahLst/>
              <a:rect l="l" t="t" r="r" b="b"/>
              <a:pathLst>
                <a:path w="2404" h="272">
                  <a:moveTo>
                    <a:pt x="2404" y="272"/>
                  </a:moveTo>
                  <a:lnTo>
                    <a:pt x="726" y="27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43880" y="4046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fehls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2764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19280" y="3587760"/>
            <a:ext cx="3051000" cy="793080"/>
            <a:chOff x="719280" y="3587760"/>
            <a:chExt cx="3051000" cy="793080"/>
          </a:xfrm>
        </p:grpSpPr>
        <p:sp>
          <p:nvSpPr>
            <p:cNvPr id="204" name=""/>
            <p:cNvSpPr/>
            <p:nvPr/>
          </p:nvSpPr>
          <p:spPr>
            <a:xfrm>
              <a:off x="719280" y="3921120"/>
              <a:ext cx="9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k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1720" y="3587760"/>
              <a:ext cx="2968560" cy="730080"/>
            </a:xfrm>
            <a:custGeom>
              <a:avLst/>
              <a:gdLst/>
              <a:ahLst/>
              <a:rect l="l" t="t" r="r" b="b"/>
              <a:pathLst>
                <a:path w="1870" h="460">
                  <a:moveTo>
                    <a:pt x="0" y="452"/>
                  </a:moveTo>
                  <a:lnTo>
                    <a:pt x="417" y="460"/>
                  </a:lnTo>
                  <a:lnTo>
                    <a:pt x="187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35C-383F-44FB-B758-457B8CF37A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1" name=""/>
          <p:cNvSpPr/>
          <p:nvPr/>
        </p:nvSpPr>
        <p:spPr>
          <a:xfrm>
            <a:off x="1042920" y="1093680"/>
            <a:ext cx="72723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1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grep From m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rom root Tue Sep 1 09:48: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rom: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rom: Schmidt Fri Aug 14 12:00: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rom: Uwe Schm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 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grep –v team /etc/pass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oot:!:0:0::/:/bin/k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tefan:!:200:1::/home/stefan:/bin/k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46040" y="4046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ep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67B-EA8F-4661-8732-2E55FFDBF6A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"/>
          <p:cNvSpPr/>
          <p:nvPr/>
        </p:nvSpPr>
        <p:spPr>
          <a:xfrm>
            <a:off x="639000" y="95076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grep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gestattet im Suchmuster die Verwendung regulä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Ausdrüc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99"/>
                </a:solidFill>
                <a:latin typeface="Arial"/>
                <a:ea typeface="Arial"/>
              </a:rPr>
              <a:t>Regulärer Ausdruc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: Zeichenkette </a:t>
            </a:r>
            <a:r>
              <a:rPr b="1" lang="de-DE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 enthält Buchstabe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Zahlen und bestimmte Sonderzeic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39640" y="2440080"/>
          <a:ext cx="8137800" cy="3941640"/>
        </p:xfrm>
        <a:graphic>
          <a:graphicData uri="http://schemas.openxmlformats.org/drawingml/2006/table">
            <a:tbl>
              <a:tblPr/>
              <a:tblGrid>
                <a:gridCol w="2232000"/>
                <a:gridCol w="590580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derzeich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eut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zhalter für ein Zeich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ederholungsfaktor für vorhergehendes Zeich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[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 der gültigen Ersetzungszeich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^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muster am Zeilenanfa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muster am Zeilene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iert das folgende Zeich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8" name=""/>
          <p:cNvSpPr/>
          <p:nvPr/>
        </p:nvSpPr>
        <p:spPr>
          <a:xfrm>
            <a:off x="3146040" y="4046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ep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19D-CC07-45F3-850A-BE5DD28B17E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"/>
          <p:cNvSpPr/>
          <p:nvPr/>
        </p:nvSpPr>
        <p:spPr>
          <a:xfrm>
            <a:off x="482760" y="1916280"/>
            <a:ext cx="81151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rwxr-xr-x 2 s889636 users08 Jan 1996 info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rwxr-xr-x 2 s889636 users08 Jan 1996 inf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rwxr-xr-x 2 s889636 users08 Jan 1996 inf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 | grep "^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rwxr-xr-x 2 s889636 users08 Jan 1996 inf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nur Directories werden aufgelis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146040" y="4046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ep - Kom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AA9-3F81-42F8-87DE-6917B2D0C50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5.1: Kopieren von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5.2: Arbeiten mit Verzeichn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5.3: Arbeiten mit langen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5.4: Löschen von Dateien und Verzeichn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5.5: Durchsuchen eines Dateibau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ung 5.6: Durchsuchen von Datei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D18-FE11-4FAE-B502-EDDF0E0D87B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"/>
          <p:cNvSpPr/>
          <p:nvPr/>
        </p:nvSpPr>
        <p:spPr>
          <a:xfrm>
            <a:off x="611280" y="1123920"/>
            <a:ext cx="7848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Zugriffsrecht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für Dateien und Verzeichnisse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trennt vergeben fü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n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tüm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des Objek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itglieder der Grupp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der das Objekt zug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d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 die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stlichen Benutz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4000" y="3860640"/>
            <a:ext cx="8642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rechte legen fest, wer auf Dateien und Verzeichni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eifen dar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r Datei oder Verzeichnis anlegt, wird Eigentüm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rechte können nur vom Eigentümer verändert wer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gentümer legt Zugriffsrechte f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i oder Verzeichnis wird der Primärgruppe des Eigentü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rs zugeord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FAF-BFDD-49EF-9434-CF9C5B78FD0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"/>
          <p:cNvSpPr/>
          <p:nvPr/>
        </p:nvSpPr>
        <p:spPr>
          <a:xfrm>
            <a:off x="611280" y="1052640"/>
            <a:ext cx="79214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s -Optionen [Verzeichnis / Date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ist directory) listet den Inhalt von Verzeich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 und zeigt Info über Dateien und Verzeich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3141720"/>
            <a:ext cx="7991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</a:t>
            </a:r>
            <a:r>
              <a:rPr b="1" lang="de-DE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rw-r--r--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1 s88936 users 101 Jan 05 fil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</a:t>
            </a:r>
            <a:r>
              <a:rPr b="1" lang="de-DE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rw-r--r--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1 s88936 users 222 Jan 11 fil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</a:t>
            </a:r>
            <a:r>
              <a:rPr b="1" lang="de-DE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rwxr-xr-x</a:t>
            </a: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2 s88936 users 313 Jan 11 fil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9200" y="5535720"/>
            <a:ext cx="834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              Eigentümer              Größe                  Datei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typ            Linkzähler           Gruppe       Änderungs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6920" y="4941720"/>
            <a:ext cx="0" cy="93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843280" y="4941720"/>
            <a:ext cx="0" cy="93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932360" y="4941720"/>
            <a:ext cx="0" cy="93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877080" y="4941720"/>
            <a:ext cx="0" cy="93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4941720"/>
            <a:ext cx="0" cy="71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708360" y="4941720"/>
            <a:ext cx="0" cy="71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796000" y="4941720"/>
            <a:ext cx="0" cy="71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956720" y="4941720"/>
            <a:ext cx="0" cy="71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199-CC7C-4F16-B0BE-DADC55C6B85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699120" y="3114720"/>
            <a:ext cx="801864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Für Datei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Kann Inhalt einer Datei les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w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Kann Inhalt einer Datei änder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x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Kann die Datei ausfüh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Für Verzeichniss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Voraussetzung für das Auflisten des Verzeichnisinhal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w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Voraussetzung für das Anlegen oder Löschen von Datei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x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Voraussetzung für den Wechsel in das Verzeichn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258920" y="1052640"/>
            <a:ext cx="6553080" cy="1584360"/>
            <a:chOff x="1258920" y="1052640"/>
            <a:chExt cx="6553080" cy="1584360"/>
          </a:xfrm>
        </p:grpSpPr>
        <p:sp>
          <p:nvSpPr>
            <p:cNvPr id="892" name=""/>
            <p:cNvSpPr/>
            <p:nvPr/>
          </p:nvSpPr>
          <p:spPr>
            <a:xfrm>
              <a:off x="1258920" y="1052640"/>
              <a:ext cx="655308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   </a:t>
              </a:r>
              <a:r>
                <a:rPr b="1" lang="de-DE" sz="2800" spc="-1" strike="noStrike">
                  <a:solidFill>
                    <a:srgbClr val="333399"/>
                  </a:solidFill>
                  <a:latin typeface="Courier New"/>
                  <a:ea typeface="Courier New"/>
                </a:rPr>
                <a:t>rwx        rwx        rw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Eigentümer            Gruppe               And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68360" y="1628640"/>
              <a:ext cx="0" cy="503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643280" y="1628640"/>
              <a:ext cx="0" cy="503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20000" y="1628640"/>
              <a:ext cx="0" cy="503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D86-36EB-4FE9-B0CE-3FAB84C1285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"/>
          <p:cNvGraphicFramePr/>
          <p:nvPr/>
        </p:nvGraphicFramePr>
        <p:xfrm>
          <a:off x="468360" y="1397160"/>
          <a:ext cx="820728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2448000"/>
                <a:gridCol w="1656000"/>
                <a:gridCol w="23032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an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llverzeichn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lldate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lverzeichn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dir,rmd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,l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 –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, 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01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066-80D6-48A0-9C9E-5027C1DBFE2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"/>
          <p:cNvSpPr/>
          <p:nvPr/>
        </p:nvSpPr>
        <p:spPr>
          <a:xfrm>
            <a:off x="755640" y="1268280"/>
            <a:ext cx="798840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d q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|rwx|r-x|---| 2 s889636 users ... q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$ ls –l q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|rw-|r--|---| 1 s889636 users ... hallo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|rw-|r--|---| 1 s889636 users ... task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|r--|r--|---| 1 s889636 users ... zip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889636 ist Mitglied der Gruppe use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889636 darf das Verzeichnis quelle auflis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889636 darf ein Unterverzeichnis in quelle anle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889636 darf die Datei task.c kopie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s889636 darf nicht den Inhalt von zip.c veränder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6CF-6C5F-464C-A5B3-0E392B1EEC3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98520" y="3729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7802640" y="115920"/>
          <a:ext cx="12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02640" y="115920"/>
                    <a:ext cx="12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324000" y="1052640"/>
            <a:ext cx="8424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chmod Modus [Datei / Verzeichni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chmo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change permission mode)  ändert 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75360" y="2997360"/>
            <a:ext cx="7602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Der Modus besteht aus drei Parameter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333399"/>
                </a:solidFill>
                <a:latin typeface="Arial"/>
              </a:rPr>
              <a:t>Benutzerklassen        Operator                        Zugriffsrech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u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user(Eigner)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hinzufügen 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les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g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gruppe    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wegnehmen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w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schreib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o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andere    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=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setzen                    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x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ausführ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o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a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92920" y="5810400"/>
            <a:ext cx="788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der Angabe des Modus keine Leerzeichen verwende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435120" y="404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ux_ba.ppt       /       A. Flega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4A0-6FC6-4348-963C-187D880435C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6:23:21Z</dcterms:created>
  <dc:creator>IBM_User</dc:creator>
  <dc:description/>
  <dc:language>en-US</dc:language>
  <cp:lastModifiedBy>IBM_User</cp:lastModifiedBy>
  <dcterms:modified xsi:type="dcterms:W3CDTF">2003-05-07T12:47:26Z</dcterms:modified>
  <cp:revision>159</cp:revision>
  <dc:subject/>
  <dc:title>Slide 1</dc:title>
</cp:coreProperties>
</file>